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9B4-8512-4E4F-8B28-F7D9FF19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0E1-9383-41F7-A4CE-082ADFC7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F9E68-4EAB-4ED4-B146-EFE271E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25247-6678-4C86-807A-860827FA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E2464-3C74-46FC-9721-1A31FB93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53455-FB3F-4F88-B376-FAB9DB7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7EADC-BD5E-46F9-98B6-0EFACD1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B714A-A384-4C82-B757-4520E98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04E8D-9A16-45A3-BA19-1B3B7B01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3669D-A4A5-428D-AF3F-22185C97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66961-2790-4660-9EFC-ABD07F2C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C9C43-792C-4DDC-BE80-25D3E5A1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A12-C003-40A1-A032-B23187C2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B30D7-CAF0-4126-B425-50EF4632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FE1BA-E480-45DC-A28F-31E29526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AEE47-9F0C-41D9-902E-A293EF69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81D71-A186-43E4-897C-BB57AC7C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90C93-6AEE-4E51-BC91-F6A0C6CC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E94FE-5605-44A0-B6FA-6E31CCE9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3394E-FC2B-4823-82CE-135925E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F9400-CBF4-47A3-83E0-68C0703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590D-C325-457D-B740-B4E0983D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F16FF-34A9-472A-BAF2-7F6EB874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8E8-D954-4258-9907-B30E5D4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9476-3689-4B88-8F5B-BF7F5AEE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39B8-C6D2-48E7-9BD4-00CD64C2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F0B99-9089-489D-AE8D-68072DB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EA5F-5930-43DB-B18B-391D13CA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1FBB3-06A3-4DB2-A930-9EA3FDED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D55E-74A9-4D3C-B1E9-4850491B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6E48-7053-4887-9F45-6FFCDEDD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CC83D-653E-411B-83B3-9BDF41C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9C3EC-1637-4C78-8F94-E499C66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0ECE6-D482-4F23-B255-85DDA248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1D5-8A2A-4CD9-89F9-1E9F0315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9C4A-30A2-4FFD-AD55-67BF3283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0C1F5-4C74-4FF5-A88C-D8B861B8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18F8-3699-4330-BEDB-5C96C73A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DDFD4-5326-411A-B769-8AC44816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4C8B3-7AE2-4B54-9550-9B48323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41922-3581-4F0E-806E-7D8DA512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CF4B7-D610-4462-8956-8558442A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99496-B392-404D-8BE8-661F38C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C730B-79D1-4928-A22E-D5DF2949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AE2F3-815E-4EAF-A323-6211F04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CF52-BFE4-4B52-9D46-F408C56B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F4502-F6CE-461F-8DB6-B7960E7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CED89-F24A-408A-ACDB-54A9E4A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A863D-6BB0-4FF1-B68E-1989E8E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9643E-D981-4857-808F-CDA3B8AA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0AC08-201D-48AA-A884-F42D7D5A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89DE7-B8DD-4EF8-BC45-DD15C132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F90DC-0799-466D-89DC-35A5270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372BA-3989-445E-AEC6-8438CFBC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1D656-B4AC-4316-8E34-CCA3116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31258-528C-4341-8D87-5DB2A010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570-257C-46A7-A913-9AEFAFE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65FEB-264C-4D8A-9546-AB51E27A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5E854-9804-4393-A0EA-E8D82A5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443CD-871D-4530-B4DA-9C0412BB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37BD1-00A6-4020-8238-C3F07B6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4240C-D874-4F79-919A-9F4772EE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11CC2-507A-46DB-85F4-4F25ACB4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153B8-421F-46D4-AE11-0563B31E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FBACF-FFAB-4407-AC8D-0CB7747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7AF12-0327-48E3-AA7B-F9C09254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D0E4A-85C3-474A-B17B-2D8DD22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7568-DC63-4828-BA4F-E445DF51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4FAC9-7DCC-4912-8EC6-C6539BE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4E7FD-0D4D-4DE9-8AFC-81EA6F8C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B5747-150E-40E7-9B72-E738EAD6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74F10-BE2E-4566-B8FF-8B426B6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A74DD-821E-4B6D-868F-CC777F83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B0EC3-F154-4BB9-B7E4-9C8DF3B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A893F-5404-41A2-A409-BF0C08D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90E4E-B530-4AA7-BD5D-6072E078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3F696-4BCD-4046-8733-458EAC7D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2250D-F046-4FDC-87F3-CA40F29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7794-F58B-4E67-A155-77A38329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C2C6B-65B1-4F2B-9839-522D1047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30904-0579-4A7F-AB55-6125473E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D1859-98B0-4066-B711-852BCAD9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D11F5-3191-4723-BA25-DA7D8555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5BC1B-455A-4FF2-9486-9813202F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3B77D-E2AB-4FC5-AFF1-58D81EF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AD080-02C2-4DB0-99D2-FAD4447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12D9C-B8C1-4458-B94E-A41F91A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8D7EC-7404-4CB0-8620-553A5973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B40AB-22F2-453A-ACE6-9C678766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3333-A729-4F27-AE18-87FD0C4E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00B1C-3267-42DA-A23E-F955F096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78C32-798E-4A65-ACE1-65CAA954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A5D21-AF88-41B2-A462-E6072128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A2A5E-0581-468C-B57E-86E1A7E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75B95-FACF-4882-B969-86F4B2C6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33AA4-AF13-4AD7-A2AB-6662C7D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AA9AF-CFC6-4572-BC25-59BCD9B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7AD1D-E339-4DAD-A23E-36C1902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14345-4A38-4212-9170-C200686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D9A2C-0FB7-4A58-9368-94D8D16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5BC-6740-4D4A-BD98-20351AB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E8EA3-5A57-4DBB-9CFE-A1DFFF0F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166D3-AACF-4E15-8ED9-E7E9DAC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47A3D-7836-484F-9FF8-D980D902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CAC1D-F948-4276-AB61-EE5B713F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4AF1A-0230-4647-AC1C-F63E6BA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FDD2C-413A-4B3F-A01F-FB17CEE4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E4955-C706-4F4D-ABDC-D473D45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841D9-EF35-4C00-8559-789CC30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DBC7E-8EF6-45A8-B4D5-0AAF55C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2D194-57B4-4039-BF5D-8298B06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488-4657-444D-91E2-427D152F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7C45-E746-40BA-BD66-D89866D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336D8-5C55-453D-8000-DD7FCE0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42DC6-CB17-482B-B9F3-BC617CE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CBC41-AE0F-4A15-BC7E-A18E140B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248FC-52FB-4802-AE36-E132CCEF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7FEA4-3DC7-4B81-86C7-53E3C38B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BC108-16FC-4926-A31B-C2026DC1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1BCA3-87B5-47FD-AE37-D0B4F35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C6082-F7D9-4448-8339-6DF8947A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449A2-A2F7-4565-BF8B-7EAED831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5A0EE-839D-4F8F-89D0-CC4F894A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129-31FA-47D7-B97B-BBFE9DB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5E4E2-4D0F-4C44-BDD3-2A031175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AA61E-4C44-4FC3-93F4-45C1E54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76F1B-CB49-4E1A-B272-BFE14B2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98AE7-BEB1-4B97-9E39-8AE0090F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9731F-C7C2-4CAB-82F0-32373EF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AEA07-AC3D-4355-A6E8-B9136396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8D115-10D3-4C0C-92CA-B7969E6E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28A73-80EC-47F3-A01D-DCF9E671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1F943-AD87-417A-A7F7-F8F3C91C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D00F3-50EA-4DE8-8D79-AE4CAA61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565-64FC-451B-BF95-2D43552A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2EE97-AF79-4FCE-B367-C66F847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7303C-2EA2-4F57-85FB-3D37484B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0D098-AACB-44E0-8777-99DFDFC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B16B35-EB22-48B8-9254-5EE94A2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67152-6014-4435-9DB8-938ECE2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6176D-9A00-4B96-979F-49693F0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A521F-2BEF-4ACD-8342-F5494148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E0EB0-ABB2-42B1-9808-94CA71A2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B7081-0D58-4097-B02E-46AC6AFA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FD72B-EF23-43FA-BF7B-4195C8F2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951B-1424-4777-9862-C65B104A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0C7E1-0EB8-4A6A-B06F-E5FB420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BE1B7-4C7D-4ECF-AA54-56CF0238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3DC2F-FF52-43F4-8F36-CD32BA8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2A237-C990-4840-8E0D-4AB01ED7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E027D-B8B3-4D98-8E61-FBC44D5B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136CE-F287-49A5-B9A8-B6B0CE0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496B0-E9DF-4664-ADEB-32D68A3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8A53C-9906-4424-B331-EF27869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1C92A8-7EF8-4218-B650-EB197C37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9C7C9-3C05-4AFB-8BBD-11182C4D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C80A-DF58-4BA5-9182-27567396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A668A-73D1-42CA-B07C-3D1E9BE1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91A2-32E6-4A79-A6B3-31C0434E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F3C2-0C01-424F-BD07-F0722B2C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A66A-B8F3-4847-80AB-439FBEC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DB1D-4275-4847-9E23-F606862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0AFD-6B7D-4EB9-9D34-96E78E5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535-DA54-4448-85DF-C7F39B8E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88FE-3126-4557-B880-DC82103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E778-4F3D-4B33-88D4-98D7D7FC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8009-7A4D-4E06-97EE-703F649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13E4-AB0F-48E8-AB35-BFFAA0E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383F-3607-4BB0-9FFB-9CFCBABA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6BE6-14CF-4DCB-94C0-973CCDD5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0646-E748-484F-8C7B-B1C9D2B0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1D61-66A8-4AAC-AA86-F3140E3A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8395-2686-4DE4-BDA0-EF92687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AAEA-E0A7-4888-ADF8-468D94E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F7E-3605-40A7-9B69-81EA30A1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CAEA-9CFB-4255-A6E0-9A4DB50D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E354-14B1-432E-8CE5-742CB48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2A77-CC12-4F62-A3BC-F9AEDC4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0A0D-B3B7-4154-9EFE-FBD4F22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B4EA-2C60-42A1-A141-289299E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3EE8-D0F2-42B8-A14E-D8A7230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DFC9-4C61-4A73-8AD5-9F5256F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B13AB-93BB-4C06-AC07-9A1F154C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822C-9BCE-4589-921F-F2CE892C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D7C6-20E2-4562-ACDA-E7F0A6A4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12D-342E-49A0-BCDA-6E16549A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1CEE-EF43-407B-996F-3483F407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CCA5-7D59-4CAB-8177-E06182FB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51D2-BC67-4223-8B50-3D7AB9B2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F1F7-D7B8-46D9-9CBF-BEA9084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D1A3-BE9E-45DB-9B31-2EB3523D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4067A-5FE5-4530-96FA-6502C8DE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8B49-8176-47B6-9359-65F4B44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9512-7C01-495D-A780-78D73C6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FAC4-9596-4EE7-9CBB-7A91E1EC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C246-7F6C-44B4-9974-8106AA2F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A19-704E-4116-B52F-3F5118AF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93DB-A630-4224-960D-7E24CA3B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74F3-0FA9-40D8-BC97-0C4BE500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C5D3-8452-4B1A-B39E-B2F703A8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4EB8-6746-4E9C-8DF2-1794E8E5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701CD-E5EE-420C-AB99-6FF2D5E2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BF07-F9F9-4077-B4CB-23DE56C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124FC-DF7B-4F4E-9417-64C406D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3BB32-627D-4A57-8F1B-6C7D2B1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C47D6-73F0-4872-AA6D-9E56164B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D9CC-75C6-4516-8507-49F3F47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3B5-72DB-4EC0-8913-443F6B43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71AA-D9B5-44E8-ABD4-B8E48CCC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61E9-06E2-4CD4-AF31-60456336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AE84-C33A-417C-A912-E72E2F8D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01257-470E-4903-AE26-A39BC68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EE30-2FAF-4B95-9C00-5063106C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629E5-0AF4-4144-AD27-8B0C72CC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8C033-CF6A-400D-ACF0-95A17B50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A5F5-4BDD-4C7A-9343-CB38051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35D9D-5C5B-4251-9F8E-92926D9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585C-980B-4BB3-861A-599F542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68A-F0C3-47C3-9BD0-812AF6A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4FCF-A35B-4368-98F1-B6486B0C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39B6-51B2-4824-BCBF-FD5EA46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788E-1AAB-4ECB-97C3-16288D1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098E-5938-4A0C-A0EC-332056ED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FB31-8EBC-4DE4-AA06-E9E21DE5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65302-5D4B-4432-8989-CB058249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C3E4-6212-49D3-8CE1-F236813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85BCB-13E5-492B-9DDD-F8ED28BD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7091-DE25-4D67-A63C-0D779EC1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F3F1F-25D1-4A7A-945F-120A36B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D98-4ECD-4323-907F-CCCD43E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6EA90-8E46-4FB4-A122-C88880A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E3C52-889A-473F-876C-F586674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684F3-4EAB-4466-B0EF-CBD115E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F14C-AD59-4F20-A87F-1DD472C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1A35-D7F0-4564-9A51-CE9387C1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F2D5-81CF-4D70-B013-0EAD80AB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12E3-5A09-46BD-9A38-01DAAFA1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A71C5-E3B8-4345-AD47-C79E1CA6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12EF1-2B8D-4FCD-8DC2-B0BF2D9E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F0C4E-BE2D-4EB3-9EE4-ED226425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336-B49E-4F1A-A52D-F3149AB32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A71D-CCCF-471A-99D0-4086557279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74CA-06DC-4E78-B7C9-82C5B4CDF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AFD-DBE9-44EF-A557-7757D7E0E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7B7-73F3-43FB-8BB1-F301DB742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71B5-E1C4-44C2-9303-1191BBB586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1B74-C858-4FF6-A12D-7681A7017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"/>
          <p:cNvSpPr/>
          <p:nvPr/>
        </p:nvSpPr>
        <p:spPr>
          <a:xfrm rot="19394400">
            <a:off x="4902120" y="3798360"/>
            <a:ext cx="731880" cy="109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82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6"/>
          <p:cNvSpPr/>
          <p:nvPr/>
        </p:nvSpPr>
        <p:spPr>
          <a:xfrm>
            <a:off x="4503600" y="3544920"/>
            <a:ext cx="782640" cy="782640"/>
          </a:xfrm>
          <a:prstGeom prst="ellipse">
            <a:avLst/>
          </a:prstGeom>
          <a:solidFill>
            <a:srgbClr val="63b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黑体"/>
              </a:rPr>
              <a:t>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7"/>
          <p:cNvSpPr/>
          <p:nvPr/>
        </p:nvSpPr>
        <p:spPr>
          <a:xfrm rot="19394400">
            <a:off x="3906720" y="3798360"/>
            <a:ext cx="731880" cy="109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82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8"/>
          <p:cNvSpPr/>
          <p:nvPr/>
        </p:nvSpPr>
        <p:spPr>
          <a:xfrm>
            <a:off x="3508200" y="3544920"/>
            <a:ext cx="782640" cy="782640"/>
          </a:xfrm>
          <a:prstGeom prst="ellipse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9"/>
          <p:cNvSpPr/>
          <p:nvPr/>
        </p:nvSpPr>
        <p:spPr>
          <a:xfrm rot="19394400">
            <a:off x="2912760" y="3798360"/>
            <a:ext cx="730080" cy="109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82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10"/>
          <p:cNvSpPr/>
          <p:nvPr/>
        </p:nvSpPr>
        <p:spPr>
          <a:xfrm>
            <a:off x="2514600" y="3544920"/>
            <a:ext cx="781200" cy="782640"/>
          </a:xfrm>
          <a:prstGeom prst="ellipse">
            <a:avLst/>
          </a:prstGeom>
          <a:solidFill>
            <a:srgbClr val="63b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黑体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11"/>
          <p:cNvSpPr/>
          <p:nvPr/>
        </p:nvSpPr>
        <p:spPr>
          <a:xfrm rot="19394400">
            <a:off x="1917360" y="3798360"/>
            <a:ext cx="730080" cy="109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82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12"/>
          <p:cNvSpPr/>
          <p:nvPr/>
        </p:nvSpPr>
        <p:spPr>
          <a:xfrm>
            <a:off x="1519200" y="3544920"/>
            <a:ext cx="782640" cy="782640"/>
          </a:xfrm>
          <a:prstGeom prst="ellipse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黑体"/>
              </a:rPr>
              <a:t>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3"/>
          <p:cNvSpPr/>
          <p:nvPr/>
        </p:nvSpPr>
        <p:spPr>
          <a:xfrm rot="19394400">
            <a:off x="5898960" y="3798360"/>
            <a:ext cx="730080" cy="109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82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14"/>
          <p:cNvSpPr/>
          <p:nvPr/>
        </p:nvSpPr>
        <p:spPr>
          <a:xfrm>
            <a:off x="5500800" y="3544920"/>
            <a:ext cx="780840" cy="782640"/>
          </a:xfrm>
          <a:prstGeom prst="ellipse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黑体"/>
              </a:rPr>
              <a:t>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5"/>
          <p:cNvSpPr/>
          <p:nvPr/>
        </p:nvSpPr>
        <p:spPr>
          <a:xfrm rot="19394400">
            <a:off x="6894000" y="3798360"/>
            <a:ext cx="730440" cy="109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82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6"/>
          <p:cNvSpPr/>
          <p:nvPr/>
        </p:nvSpPr>
        <p:spPr>
          <a:xfrm>
            <a:off x="6496200" y="3544920"/>
            <a:ext cx="782640" cy="782640"/>
          </a:xfrm>
          <a:prstGeom prst="ellipse">
            <a:avLst/>
          </a:prstGeom>
          <a:solidFill>
            <a:srgbClr val="63b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黑体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D263-E02C-412D-AF26-F4E1089E5D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E42-DC50-44A5-85AA-480FBE73D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5" descr=""/>
          <p:cNvPicPr/>
          <p:nvPr/>
        </p:nvPicPr>
        <p:blipFill>
          <a:blip r:embed="rId2"/>
          <a:stretch/>
        </p:blipFill>
        <p:spPr>
          <a:xfrm>
            <a:off x="0" y="4651200"/>
            <a:ext cx="9144000" cy="220680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8"/>
          <p:cNvGrpSpPr/>
          <p:nvPr/>
        </p:nvGrpSpPr>
        <p:grpSpPr>
          <a:xfrm>
            <a:off x="8008920" y="384120"/>
            <a:ext cx="655560" cy="776520"/>
            <a:chOff x="8008920" y="384120"/>
            <a:chExt cx="655560" cy="776520"/>
          </a:xfrm>
        </p:grpSpPr>
        <p:sp>
          <p:nvSpPr>
            <p:cNvPr id="560" name="MH_Others_1"/>
            <p:cNvSpPr/>
            <p:nvPr/>
          </p:nvSpPr>
          <p:spPr>
            <a:xfrm>
              <a:off x="8008920" y="384120"/>
              <a:ext cx="556200" cy="55044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MH_Others_2"/>
            <p:cNvSpPr/>
            <p:nvPr/>
          </p:nvSpPr>
          <p:spPr>
            <a:xfrm>
              <a:off x="8299440" y="800640"/>
              <a:ext cx="365040" cy="360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153D-7175-4F52-883C-CD05DAC4C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CEE-00F6-4040-B5D8-42506E7F0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8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8" descr=""/>
          <p:cNvPicPr/>
          <p:nvPr/>
        </p:nvPicPr>
        <p:blipFill>
          <a:blip r:embed="rId2"/>
          <a:stretch/>
        </p:blipFill>
        <p:spPr>
          <a:xfrm>
            <a:off x="0" y="465120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3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895-6376-4D7F-BC30-F7B58EAD3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4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5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40F-3A05-4C45-A529-E09A9C0C3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10" descr=""/>
          <p:cNvPicPr/>
          <p:nvPr/>
        </p:nvPicPr>
        <p:blipFill>
          <a:blip r:embed="rId2"/>
          <a:stretch/>
        </p:blipFill>
        <p:spPr>
          <a:xfrm>
            <a:off x="0" y="5686560"/>
            <a:ext cx="1312920" cy="1171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A6C0-C4FA-43DF-B0EC-C257AC8B4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7EA-C02D-4B43-8BB9-B78266428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组合 10"/>
          <p:cNvGrpSpPr/>
          <p:nvPr/>
        </p:nvGrpSpPr>
        <p:grpSpPr>
          <a:xfrm>
            <a:off x="214200" y="422280"/>
            <a:ext cx="655920" cy="776160"/>
            <a:chOff x="214200" y="422280"/>
            <a:chExt cx="655920" cy="776160"/>
          </a:xfrm>
        </p:grpSpPr>
        <p:sp>
          <p:nvSpPr>
            <p:cNvPr id="694" name="MH_Others_1"/>
            <p:cNvSpPr/>
            <p:nvPr/>
          </p:nvSpPr>
          <p:spPr>
            <a:xfrm>
              <a:off x="214200" y="422280"/>
              <a:ext cx="556200" cy="55008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MH_Others_2"/>
            <p:cNvSpPr/>
            <p:nvPr/>
          </p:nvSpPr>
          <p:spPr>
            <a:xfrm>
              <a:off x="505080" y="838440"/>
              <a:ext cx="365040" cy="360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3" descr=""/>
          <p:cNvPicPr/>
          <p:nvPr/>
        </p:nvPicPr>
        <p:blipFill>
          <a:blip r:embed="rId2"/>
          <a:stretch/>
        </p:blipFill>
        <p:spPr>
          <a:xfrm flipH="1">
            <a:off x="7830720" y="5686560"/>
            <a:ext cx="1312920" cy="11714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A6E7-103D-445F-BF15-D16045749F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A30-9D8D-4BA6-BA99-48F5A7A0E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组合 9"/>
          <p:cNvGrpSpPr/>
          <p:nvPr/>
        </p:nvGrpSpPr>
        <p:grpSpPr>
          <a:xfrm>
            <a:off x="214200" y="1098720"/>
            <a:ext cx="655920" cy="776160"/>
            <a:chOff x="214200" y="1098720"/>
            <a:chExt cx="655920" cy="776160"/>
          </a:xfrm>
        </p:grpSpPr>
        <p:sp>
          <p:nvSpPr>
            <p:cNvPr id="741" name="MH_Others_1"/>
            <p:cNvSpPr/>
            <p:nvPr/>
          </p:nvSpPr>
          <p:spPr>
            <a:xfrm>
              <a:off x="214200" y="1098720"/>
              <a:ext cx="556200" cy="55008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MH_Others_2"/>
            <p:cNvSpPr/>
            <p:nvPr/>
          </p:nvSpPr>
          <p:spPr>
            <a:xfrm>
              <a:off x="505080" y="1514880"/>
              <a:ext cx="365040" cy="360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12"/>
          <p:cNvGrpSpPr/>
          <p:nvPr/>
        </p:nvGrpSpPr>
        <p:grpSpPr>
          <a:xfrm>
            <a:off x="8258040" y="5156280"/>
            <a:ext cx="655920" cy="776160"/>
            <a:chOff x="8258040" y="5156280"/>
            <a:chExt cx="655920" cy="776160"/>
          </a:xfrm>
        </p:grpSpPr>
        <p:sp>
          <p:nvSpPr>
            <p:cNvPr id="744" name="MH_Others_1"/>
            <p:cNvSpPr/>
            <p:nvPr/>
          </p:nvSpPr>
          <p:spPr>
            <a:xfrm>
              <a:off x="8258040" y="5156280"/>
              <a:ext cx="556200" cy="55008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MH_Others_2"/>
            <p:cNvSpPr/>
            <p:nvPr/>
          </p:nvSpPr>
          <p:spPr>
            <a:xfrm>
              <a:off x="8548920" y="5572440"/>
              <a:ext cx="365040" cy="360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2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D19-CC20-419E-A36E-18F57CAA7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3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4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1E02-F41E-45BD-8379-5E4542A086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11" descr=""/>
          <p:cNvPicPr/>
          <p:nvPr/>
        </p:nvPicPr>
        <p:blipFill>
          <a:blip r:embed="rId2"/>
          <a:stretch/>
        </p:blipFill>
        <p:spPr>
          <a:xfrm flipH="1">
            <a:off x="7621200" y="5499000"/>
            <a:ext cx="1522440" cy="135900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A67-7130-4284-B697-8CFBA2FB4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C46D-5911-472B-AEA0-0E63E21266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5624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B7FD-EC34-4564-BB54-4A583914E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562428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5624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2351-A3FD-477A-A630-3F2A364D8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9"/>
          <p:cNvSpPr/>
          <p:nvPr/>
        </p:nvSpPr>
        <p:spPr>
          <a:xfrm>
            <a:off x="0" y="1576440"/>
            <a:ext cx="9144000" cy="370512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组合 7"/>
          <p:cNvGrpSpPr/>
          <p:nvPr/>
        </p:nvGrpSpPr>
        <p:grpSpPr>
          <a:xfrm>
            <a:off x="214200" y="422280"/>
            <a:ext cx="655920" cy="776160"/>
            <a:chOff x="214200" y="422280"/>
            <a:chExt cx="655920" cy="776160"/>
          </a:xfrm>
        </p:grpSpPr>
        <p:sp>
          <p:nvSpPr>
            <p:cNvPr id="834" name="MH_Others_1"/>
            <p:cNvSpPr/>
            <p:nvPr/>
          </p:nvSpPr>
          <p:spPr>
            <a:xfrm>
              <a:off x="214200" y="422280"/>
              <a:ext cx="556200" cy="55008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MH_Others_2"/>
            <p:cNvSpPr/>
            <p:nvPr/>
          </p:nvSpPr>
          <p:spPr>
            <a:xfrm>
              <a:off x="505080" y="838440"/>
              <a:ext cx="365040" cy="360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图片 11" descr=""/>
          <p:cNvPicPr/>
          <p:nvPr/>
        </p:nvPicPr>
        <p:blipFill>
          <a:blip r:embed="rId2"/>
          <a:stretch/>
        </p:blipFill>
        <p:spPr>
          <a:xfrm flipH="1">
            <a:off x="6657840" y="4638600"/>
            <a:ext cx="2486160" cy="22194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8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C0A9-565F-4B52-A7DA-D60D359E5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9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0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7D38-D4BF-4699-A1D1-67AF96359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445-2CBF-4753-8AC5-D4E0BA921D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8819-4C66-420D-943F-01F9D1440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8E93-9784-4E43-91B6-A42E30E8C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F57A-4E54-4F5B-9954-FB59836A9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6B59-6F7E-4287-BF88-001C06EE3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B75-EB41-4414-8277-658AC737A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4CA-0B03-49FE-9B01-67A09117F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1240-6399-4264-B2B5-2F8BD96A3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CC9-6780-4049-BD62-78563B932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EBF-8439-4C56-925F-2F2C364CD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6CD-3AB7-4129-A5B7-B34FC2A79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4AB2-4F36-4510-9539-F8319BCBF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332640" indent="33228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997920" indent="-33264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330200" indent="-66492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330200" indent="-664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C185-F483-4955-AB02-DCDBAA32F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13A-4972-4E4C-AC0D-A45A0BF82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78120" y="3333240"/>
            <a:ext cx="523728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657b3e"/>
                </a:solidFill>
                <a:latin typeface="Arial"/>
              </a:rPr>
              <a:t>Z</a:t>
            </a:r>
            <a:r>
              <a:rPr b="1" lang="zh-CN" sz="3300" spc="-1" strike="noStrike">
                <a:solidFill>
                  <a:srgbClr val="657b3e"/>
                </a:solidFill>
                <a:latin typeface="Arial"/>
              </a:rPr>
              <a:t>函数（拓展</a:t>
            </a:r>
            <a:r>
              <a:rPr b="1" lang="en-US" sz="3300" spc="-1" strike="noStrike">
                <a:solidFill>
                  <a:srgbClr val="657b3e"/>
                </a:solidFill>
                <a:latin typeface="Arial"/>
              </a:rPr>
              <a:t>KMP</a:t>
            </a:r>
            <a:r>
              <a:rPr b="1" lang="zh-CN" sz="3300" spc="-1" strike="noStrike">
                <a:solidFill>
                  <a:srgbClr val="657b3e"/>
                </a:solidFill>
                <a:latin typeface="Arial"/>
              </a:rPr>
              <a:t>）</a:t>
            </a:r>
            <a:endParaRPr b="1" lang="en-US" sz="33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2805120" y="4538160"/>
            <a:ext cx="698328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538750"/>
                </a:solidFill>
                <a:latin typeface="Arial"/>
              </a:rPr>
              <a:t>字符串匹配算法</a:t>
            </a:r>
            <a:endParaRPr b="0" lang="en-US" sz="1300" spc="-1" strike="noStrike">
              <a:solidFill>
                <a:srgbClr val="657b3e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881" name="内容占位符 6" descr=""/>
          <p:cNvPicPr/>
          <p:nvPr/>
        </p:nvPicPr>
        <p:blipFill>
          <a:blip r:embed="rId1"/>
          <a:stretch/>
        </p:blipFill>
        <p:spPr>
          <a:xfrm>
            <a:off x="628560" y="476280"/>
            <a:ext cx="7277040" cy="1622520"/>
          </a:xfrm>
          <a:prstGeom prst="rect">
            <a:avLst/>
          </a:prstGeom>
          <a:ln w="0">
            <a:noFill/>
          </a:ln>
        </p:spPr>
      </p:pic>
      <p:pic>
        <p:nvPicPr>
          <p:cNvPr id="882" name="对象 8" descr=""/>
          <p:cNvPicPr/>
          <p:nvPr/>
        </p:nvPicPr>
        <p:blipFill>
          <a:blip r:embed="rId2"/>
          <a:stretch/>
        </p:blipFill>
        <p:spPr>
          <a:xfrm>
            <a:off x="628560" y="2131920"/>
            <a:ext cx="7969320" cy="1036800"/>
          </a:xfrm>
          <a:prstGeom prst="rect">
            <a:avLst/>
          </a:prstGeom>
          <a:ln w="0">
            <a:noFill/>
          </a:ln>
        </p:spPr>
      </p:pic>
      <p:sp>
        <p:nvSpPr>
          <p:cNvPr id="883" name="文本框 10"/>
          <p:cNvSpPr/>
          <p:nvPr/>
        </p:nvSpPr>
        <p:spPr>
          <a:xfrm>
            <a:off x="717480" y="371304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P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长公共前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基本思路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885" name="内容占位符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707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[NOIP2020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字符串匹配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887" name="内容占位符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218360" cy="3625920"/>
          </a:xfrm>
          <a:prstGeom prst="rect">
            <a:avLst/>
          </a:prstGeom>
          <a:ln w="0">
            <a:noFill/>
          </a:ln>
        </p:spPr>
      </p:pic>
      <p:pic>
        <p:nvPicPr>
          <p:cNvPr id="888" name="对象 6" descr=""/>
          <p:cNvPicPr/>
          <p:nvPr/>
        </p:nvPicPr>
        <p:blipFill>
          <a:blip r:embed="rId2"/>
          <a:stretch/>
        </p:blipFill>
        <p:spPr>
          <a:xfrm>
            <a:off x="4859280" y="4365720"/>
            <a:ext cx="32511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字符串循环元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11280" y="1501920"/>
            <a:ext cx="835488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[1~i]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具有长度为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n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的循环元的充要条件是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len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能整除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i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并且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[(len+1)~i]=S[1~(len-i)]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28560" y="1501920"/>
            <a:ext cx="10515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一个字符串任意循环元的长度必然是最小循环元长度的倍数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感性理解一下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可以用拓展欧几里得算法证明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893" name="对象 3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89838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895" name="内容占位符 3" descr=""/>
          <p:cNvPicPr/>
          <p:nvPr/>
        </p:nvPicPr>
        <p:blipFill>
          <a:blip r:embed="rId1"/>
          <a:stretch/>
        </p:blipFill>
        <p:spPr>
          <a:xfrm>
            <a:off x="612720" y="471600"/>
            <a:ext cx="6575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2T14:34:32Z</dcterms:created>
  <dc:creator>86186</dc:creator>
  <dc:description/>
  <dc:language>en-US</dc:language>
  <cp:lastModifiedBy>86186</cp:lastModifiedBy>
  <dcterms:modified xsi:type="dcterms:W3CDTF">2023-07-13T00:01:01Z</dcterms:modified>
  <cp:revision>7</cp:revision>
  <dc:subject/>
  <dc:title>Z函数（拓展KMP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4BAF65D37ED41A5B3D89AD901605F8C_12</vt:lpwstr>
  </property>
  <property fmtid="{D5CDD505-2E9C-101B-9397-08002B2CF9AE}" pid="3" name="KSOProductBuildVer">
    <vt:lpwstr>2052-11.1.0.14309</vt:lpwstr>
  </property>
</Properties>
</file>