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dt" idx="6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7a452"/>
                </a:solidFill>
                <a:latin typeface="黑体"/>
              </a:rPr>
              <a:t>Click to move the slide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 type="ftr" idx="6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 type="sldNum" idx="6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12D1-2F7D-498D-83C0-729A2092AB9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4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33A4-DB8A-4529-A9EA-8D71C891F9A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793F-4F96-40B3-A364-D2CAA46C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4025-C286-4C3B-8C38-A33BEA7C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C2740E-3042-4CA7-BD97-C73B13D2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6C43B2-16DF-41FB-820A-61E58411D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628560" y="1131480"/>
            <a:ext cx="788688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9D0F94-9EDE-48AD-B375-EEDA3307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058E5B-57F4-48F7-A256-E9552923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5EE59A-AB16-40B4-ABBD-35F810E9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85716D-EF3F-4513-86D6-F9148838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5CEF0A-6DCE-465E-8388-5BB4AEC7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2B4160-D40D-4566-803A-B9EF3F0C6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9544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96232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2856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9544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96232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10E468-6183-4AA6-BF5B-D55028B09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C381C8-2473-4BDE-96CC-0A7740831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FE9C-C06D-4F1A-BC39-CAA5882E6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960469-1B2B-46D2-9C93-EFC495989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93AEB0-A6DE-4CC6-8C22-7BC51B64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5203E4-C70D-423C-8CB7-27BEEFBC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0119FD-86D6-4A94-BDB9-D217C3F4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628560" y="1131480"/>
            <a:ext cx="788688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5055FB-CD93-4633-85A4-ED71EB76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74D163-982B-440F-A022-418AC59E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23CB67-73F3-4E27-97FD-D44BFCCF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D5D97D-1D63-4F1D-A7D8-37A3CFC6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67B1BC-5941-4C80-95E7-FD9B79B0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398EDD-BBFB-4162-9C05-A7ADCF6D4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DFCD-B2AC-45BB-A4EA-BC95AA3C1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9544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96232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2856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9544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96232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AEF427-7261-4977-8E60-B3AC9D169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2EDDF-E34B-4ECD-93CC-811869DA2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62886D-46F9-468F-ABD4-D1AFC260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46DAAE-7536-4C86-AC53-A9299ABF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0CB07C-D485-4ABD-8EAD-2BCA0F2F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B3A6B-6091-479D-9737-62B9AE87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628560" y="1131480"/>
            <a:ext cx="788688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0D9B1A-FCD7-4A31-8810-4214BDA6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DDE427-75E3-4A71-9C86-9E79F3FD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1BFD04-FA7A-4EE3-95D2-3C9C9B9F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9CE6F-06EF-4025-BCC0-F1DCB879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633A6-91DC-4E1D-82F8-B0E41C2F8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DB393A-D3E5-414D-967D-FD5CC4D3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FBC17-4C03-42FA-B0FB-B42B5F304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9544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96232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62856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9544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96232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E42180-1A0C-4270-8B29-A367BA6AA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3A4791-6616-4C2C-922A-D5E96723A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7F3E7A-10DE-411D-9295-94B6F928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A84973-1E1F-41B8-9EE3-CBAEFC87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D5AD81-CDCB-43D3-BA7F-0E28C5AB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D16F8A-1563-4723-B967-DA466AB9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628560" y="1131480"/>
            <a:ext cx="788688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90E0A2-49D0-4D00-B85F-CE22E7F5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106698-4A80-4B9F-8659-0AADC948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A035-00CB-40B7-8BB8-9F80895E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B5C4BE-9F87-49E2-9DCF-2C91D745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86F283-46DC-415A-942E-FF3C393C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08E062-184B-4CF4-9EE9-28DC49B1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E2F95F-3AEC-4A99-BB3B-C8A33DC45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9544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96232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2856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9544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596232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975EEB-CBE9-422F-849A-4086F001B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AC8C86-8429-4594-8725-C1018E25B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A60B78-B575-4544-B2C0-34895E79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F8F279-E62F-4257-BC4F-03C4DCAF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A290B3-C9B3-486C-BF7E-926FC78FB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7FD16A-A251-47B5-99BA-C154A9DC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B891-4F81-4EF9-B783-93586A10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628560" y="1131480"/>
            <a:ext cx="788688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55C70A-ADA2-486C-804A-489AE04E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50D04B-8013-4DCA-B919-40A24CD9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E0B11A-35D0-4C00-9831-0D452A11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71625B-2E2C-448E-AEC9-812001EC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423ED5-1E70-4709-ABC5-AD3195BD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A3E46E-C5B3-412D-88FB-0C43F00D8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9544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6232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2856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9544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596232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95EFB4-9A9D-41D8-B937-84A48E891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CAB8C2-5AB9-45FB-BD5A-7AA8FB205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18F3B2-5384-4A16-9941-BCEF0BFF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E603AC-E20E-42CE-B189-3243D2F0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C661-3688-42BA-8BFD-FFD23D1E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4D3F6E-81E1-4408-AB88-E40D84CA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260BA1-8225-4C8F-A16D-C582F1B7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28560" y="1131480"/>
            <a:ext cx="788688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AE76F9-4AE7-47C2-A17A-B34E7E87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F6494A-DF48-4E5F-90A8-4105841F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B17D05-375C-45BC-B9E1-C0410E7C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ABB4BC-4E29-4459-9638-E6A2083F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7359D1-A92E-473B-BC09-1F6D62E9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113071-08D9-41C7-90EB-CA74C702D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9544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6232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2856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9544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6232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4EAB0D-F093-44F5-85C2-222621242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69E998-0710-4638-8B65-A54BF458A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78B8-7CEC-4912-A24F-AFF835964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ACF9F9-5D00-4925-AF51-91D247AF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887F7D-B767-4920-AC61-9A3931603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3005C1-6DAF-4653-B068-AFED10343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FFBA45-CA1F-4AA7-AB8A-33663FD4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628560" y="1131480"/>
            <a:ext cx="788688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6BD6AF-2A22-482D-ADB3-A5F23042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15033A-C014-4B30-8F13-BE53F8E0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D857E0-2F93-48A2-85D9-D658BC40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1FC337-E673-481F-9B3F-C8E69357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73707A-3E70-43EA-BC64-6101D14D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B8ECE0-363B-445B-B003-00A6936BE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1131480"/>
            <a:ext cx="788688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DF91-175F-4A90-8C0D-C23343F5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9544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596232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62856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9544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596232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A1132A-B5DE-42BB-8E6A-C96B3330F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A97011-DC69-4EDE-A04B-6E72F2A5C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45D66B-3210-41BF-951E-C68EEE01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FB1FBD-7056-4221-B04C-BA6FB484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01A55D-F01D-458C-840D-F9B524F2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F37DDD-DE77-4D49-94C2-CD89717B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628560" y="1131480"/>
            <a:ext cx="788688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052DD6-BD50-4FE1-9601-6BF8A624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1C564D-DF5F-45A7-A81A-B2066B73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BA9C4C-4156-475E-ADE1-6084CA1C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D6EB39-9729-4638-905D-525BC2CA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66AD-F7D4-4511-B714-08671E62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DCA59B-06A7-4EE8-8077-A5EFF3FF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DEAA83-CA4C-4AAE-BB52-00766C056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29544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596232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62856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29544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596232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6FF19F-5CF1-4EDD-A418-DD69186A8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6F53B9-279A-47DF-9925-1C1086C4C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12D74B-EAC2-490C-B071-EFB59805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05DF89-E762-48BC-B7D1-1A468855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7D15A1-76A1-450E-A5DB-D351A0ED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48B239-B62E-44F3-B44B-14575BFD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628560" y="1131480"/>
            <a:ext cx="788688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D6DAED-F9AC-49F7-8F17-97DCF225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40DC30-250E-45CC-A35C-C7258FB7E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DB07-9869-4F30-941D-199AA168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F1B5-EBD3-4BAC-BAC8-8C4019EF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2E5B2D-9E8F-42B1-8AF6-B6DDD995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016BCD-B060-4DB3-B461-D8D1AEE5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B07BD9-2024-4304-AF8B-9A528DBE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134AD6-F201-4218-884B-7015B7672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9544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596232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62856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9544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596232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A122EA-BCE1-45EF-AE4B-B5BEBA80D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2362F8-199B-4F70-AF3D-9A34BEDAE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FA8DDD-017B-4A07-9483-2AA2EE73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227EB2-24EE-4877-80F6-81BEE809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B582C4-760F-4A76-9BD4-3AD2E067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85B1C7-7869-4E72-8210-886978C1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1DF6-3519-4644-A3A0-F0276DDE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628560" y="1131480"/>
            <a:ext cx="788688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AD09CE-A509-4A1E-9176-C02FAAAE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D96733-CA16-4D30-9355-9F684AB2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99A0E3-8181-4651-A493-3C481557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8E6ACF-FA22-4AF8-B0A3-8659CF2E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D51BBE-A328-4E12-8997-6D38C617F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F5EE29-48BE-4532-92B2-19F758F2A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29544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96232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62856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29544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596232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A7796C-6563-4B37-8B4C-2EB689ADB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40E444-11F3-40B9-BA24-FAB7D8BC4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subTitle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926182-186F-4C09-8E26-14F3FF13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A77786-6B41-4D4A-B4A8-3FC224953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7B7C-C405-43F9-93A4-67F108BF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65DD56-6158-4497-90DE-AAF2F2EB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A40CF8-2E34-40CC-9226-E2390D34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ubTitle"/>
          </p:nvPr>
        </p:nvSpPr>
        <p:spPr>
          <a:xfrm>
            <a:off x="628560" y="1131480"/>
            <a:ext cx="788688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A9756F-64DB-416A-9772-78002070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51D094-98D7-46B7-A307-7AF4C736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1B6D18-6B69-4E22-9547-6EE164370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D7A634-9601-4821-AE0D-3A27B527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296812-EC6C-4DDC-9FFC-44FC07BF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A7EE64-3BC6-4BAB-961E-BB9DA3504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329544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96232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62856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41" name="PlaceHolder 6"/>
          <p:cNvSpPr>
            <a:spLocks noGrp="1"/>
          </p:cNvSpPr>
          <p:nvPr>
            <p:ph/>
          </p:nvPr>
        </p:nvSpPr>
        <p:spPr>
          <a:xfrm>
            <a:off x="329544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42" name="PlaceHolder 7"/>
          <p:cNvSpPr>
            <a:spLocks noGrp="1"/>
          </p:cNvSpPr>
          <p:nvPr>
            <p:ph/>
          </p:nvPr>
        </p:nvSpPr>
        <p:spPr>
          <a:xfrm>
            <a:off x="596232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0CA625-FA8F-4367-AEBB-39E164A71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9E6E35-F192-47DA-8326-F31BCFFE1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8B8C-7D91-4AED-90FE-7E2467C1D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2074DF-E1B1-459E-843B-56BC7190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768366-BE6B-448D-A059-442E433F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8D887F-5BB1-430F-A431-C29FD647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2A2212-7629-4836-AB19-6E4925DA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628560" y="1131480"/>
            <a:ext cx="788688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980F76-9CBE-4D97-8491-DD16DE18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5D447B-89BF-41B8-9A47-69FB219E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495E45-F163-4DCB-88BB-BEAFD850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D03419-1555-41E4-A66A-2D6088F4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643485-7562-48F8-976F-F6C4D3B7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534F18-E8B1-4C89-88C8-FF540F571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7B809-100A-4412-BB88-56A52A0E5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329544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6232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62856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88" name="PlaceHolder 6"/>
          <p:cNvSpPr>
            <a:spLocks noGrp="1"/>
          </p:cNvSpPr>
          <p:nvPr>
            <p:ph/>
          </p:nvPr>
        </p:nvSpPr>
        <p:spPr>
          <a:xfrm>
            <a:off x="329544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89" name="PlaceHolder 7"/>
          <p:cNvSpPr>
            <a:spLocks noGrp="1"/>
          </p:cNvSpPr>
          <p:nvPr>
            <p:ph/>
          </p:nvPr>
        </p:nvSpPr>
        <p:spPr>
          <a:xfrm>
            <a:off x="596232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B6E220-74AC-4E09-BC46-665995D6D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A2BA7-2FCE-45BB-8EA2-372674D61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1C098-657D-45D1-B24D-116DF45C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2FE9B-3DE8-421B-BF7A-19BD5EA5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875B2-8C3A-4DB1-B81C-6285F8BB5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9CD67-BD03-478D-8BEB-AB0F297A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DAE7-37FB-4080-BF69-34A96F8C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28560" y="1131480"/>
            <a:ext cx="788688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F7805-77D3-40DC-8C48-D531BA31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0B71C-F51F-4E8D-89F4-EC3CA7FA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A7AD8-379F-4E53-9455-8857DEA0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0E79F-E909-4A20-AD6B-03713BB4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44ACB-D3F3-435D-A07A-53E1FB91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FA8D7-08B8-4DF0-99BB-01594D541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9544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232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2856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9544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232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F3166-3D53-4136-928F-C1533A83E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08656-3546-409D-B0CB-DA56CF668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7785D-0ACD-4657-9F5A-039F13EA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9054B-E966-485C-96C4-C8BD2D9D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72D4-4C03-4A7A-BBAE-F525E79A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632FC-642A-4AA3-B56B-CD6938F8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8436B-44C2-4CA2-AEC5-A8634A85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28560" y="1131480"/>
            <a:ext cx="788688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9E4C2-ABE4-427F-9D37-1AB6891D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1D096-8E32-43F8-979E-9B04D25C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CC570-D4DB-466F-A0BF-2409FBC4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293A0-CCB9-4593-824B-769C5EF7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51D68-31F7-425A-B878-1CC574FC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E7B67-03E4-4DA3-BA02-EE0469C05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9544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232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2856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9544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232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7EF62-3EEC-4C51-88CF-43866C8C6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EEF32C-9843-4434-8387-543588E39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8DC0-5DD7-4299-B09C-FBA21358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0E760-8496-4886-9902-17BB028B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23294-B709-4B16-99D6-399732FA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8943E-C9A0-4F7A-B372-59DFD4E5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E869E-0565-43DA-8367-47972E66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28560" y="1131480"/>
            <a:ext cx="788688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3E684-10BC-455F-A4C2-9437440C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50C37-8787-4739-A5A1-94F1D184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5B414C-3D09-4A7F-8FA5-92114599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951A4-F090-4AD4-9C58-F7356AC0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F74F9-4CCA-44ED-9A9A-39E1846E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C4171-C9A7-475A-AFCD-0C3C129E3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1131480"/>
            <a:ext cx="788688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C0C2-6607-4732-BAF5-B504E2C9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9544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6232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856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9544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6232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1F794-6DE8-4849-895E-CE177EE86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BB79F-37CC-457A-96BF-28A521710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1214C-7FCC-404E-8F65-7EDFD229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8A1E8-AAF7-4A62-A5F7-FB8116CA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3BF81-C4AA-4055-AA01-985BE938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A8279-EDAB-4DB3-A097-3551E5B0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628560" y="1131480"/>
            <a:ext cx="788688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2780E-CF5B-4DCD-8711-FF76DDE8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F6750-50B2-447F-9529-9F8D1EE5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89B07-86F8-4F40-BDDB-DD627EE2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510E4-D65B-4DAB-9939-25731C49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568D-17B3-439A-B32B-B4BA07FB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4CD5E-72C0-4841-B9E1-BFB1C157D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5E1DC-D756-44C5-BF6F-EAA10962B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9544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96232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2856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9544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96232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A86D2-9CD6-4D09-99B8-E819522B3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C97D6-C8B9-4D92-B8F0-EC8F52E67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5AED3-CCE6-42EE-AEE5-263E1D1BA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CE255-1B15-49A6-8EE8-18F1B72E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92442-FE51-4E97-B26B-5226BF88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C530B-5C63-439D-8AFD-1BD8FE49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628560" y="1131480"/>
            <a:ext cx="788688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A7820-D333-4BFA-A5CE-337F3DB9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5AED8-EF65-4FDC-9801-7DD8A3A1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F185-DCF4-4B94-8B06-BC0FD21E5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83048-A87B-4434-9B14-2830A782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C76F3-C624-40DD-9085-A04499F5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7BC65-CEC7-4A71-8DF2-45502125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27F5D-1381-4881-8750-AE6D144E3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9544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96232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2856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9544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96232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7E780-661C-4146-A25B-3930F70CC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E4AC5-7B5B-4369-AEEF-8A43B7233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6E015-AC7C-4C05-AE0D-7DABB8E6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BA050-9E6D-4159-A2CA-B73D24C08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80780-E218-4B11-82AC-B74E8283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58E86-417D-42D5-9EA7-F27037F7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0938-01E1-4A87-A1D0-9EF5CAE5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628560" y="1131480"/>
            <a:ext cx="788688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48632-57E7-4412-BEFB-0DDEEF2C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45DD1-077B-4437-80D3-19EE6E86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9BFF19-D479-42F5-B2A5-D5EE9FCE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87026-4179-4FFA-8AE5-88C4C857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8560" y="3341520"/>
            <a:ext cx="788688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3704B-ED17-4B76-82A7-397D456E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0280" y="198396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2856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0280" y="3341520"/>
            <a:ext cx="384876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7191D-E773-4A00-AF3C-2AB33CA43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9544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962320" y="198396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2856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9544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962320" y="3341520"/>
            <a:ext cx="2539440" cy="12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74C70-52C4-4EFF-810B-8E3C86181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5EF587-018D-493C-8DA7-51ACFC777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CA321D-B027-4FBF-BC47-6F5BDC03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929ECC-3513-447E-A882-897AF9BB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45.xml"/><Relationship Id="rId10" Type="http://schemas.openxmlformats.org/officeDocument/2006/relationships/slideLayout" Target="../slideLayouts/slideLayout146.xml"/><Relationship Id="rId11" Type="http://schemas.openxmlformats.org/officeDocument/2006/relationships/slideLayout" Target="../slideLayouts/slideLayout147.xml"/><Relationship Id="rId12" Type="http://schemas.openxmlformats.org/officeDocument/2006/relationships/slideLayout" Target="../slideLayouts/slideLayout148.xml"/><Relationship Id="rId13" Type="http://schemas.openxmlformats.org/officeDocument/2006/relationships/slideLayout" Target="../slideLayouts/slideLayout149.xml"/><Relationship Id="rId14" Type="http://schemas.openxmlformats.org/officeDocument/2006/relationships/slideLayout" Target="../slideLayouts/slideLayout150.xml"/><Relationship Id="rId15" Type="http://schemas.openxmlformats.org/officeDocument/2006/relationships/slideLayout" Target="../slideLayouts/slideLayout151.xml"/><Relationship Id="rId16" Type="http://schemas.openxmlformats.org/officeDocument/2006/relationships/slideLayout" Target="../slideLayouts/slideLayout152.xml"/><Relationship Id="rId17" Type="http://schemas.openxmlformats.org/officeDocument/2006/relationships/slideLayout" Target="../slideLayouts/slideLayout153.xml"/><Relationship Id="rId18" Type="http://schemas.openxmlformats.org/officeDocument/2006/relationships/slideLayout" Target="../slideLayouts/slideLayout154.xml"/><Relationship Id="rId19" Type="http://schemas.openxmlformats.org/officeDocument/2006/relationships/slideLayout" Target="../slideLayouts/slideLayout155.xml"/><Relationship Id="rId20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9B79-0D24-492C-944C-8CCEFCED5E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KSO_TEMPLATE" hidden="1"/>
          <p:cNvSpPr/>
          <p:nvPr/>
        </p:nvSpPr>
        <p:spPr>
          <a:xfrm>
            <a:off x="0" y="857160"/>
            <a:ext cx="360" cy="360"/>
          </a:xfrm>
          <a:prstGeom prst="rect">
            <a:avLst/>
          </a:prstGeom>
          <a:solidFill>
            <a:srgbClr val="87a452"/>
          </a:solidFill>
          <a:ln w="12600">
            <a:solidFill>
              <a:srgbClr val="6277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7a452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65960" indent="-165960">
              <a:lnSpc>
                <a:spcPct val="90000"/>
              </a:lnSpc>
              <a:spcBef>
                <a:spcPts val="75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Click to edit the outline text format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1" marL="49896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con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2" marL="83124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Thir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3" marL="116388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our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4" marL="149652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if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5" marL="1496520" indent="-165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ix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6" marL="1496520" indent="-165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ven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28584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114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2ED4-56A1-42AB-A8B8-97432FDDC176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KSO_TEMPLATE" hidden="1"/>
          <p:cNvSpPr/>
          <p:nvPr/>
        </p:nvSpPr>
        <p:spPr>
          <a:xfrm>
            <a:off x="0" y="857160"/>
            <a:ext cx="360" cy="360"/>
          </a:xfrm>
          <a:prstGeom prst="rect">
            <a:avLst/>
          </a:prstGeom>
          <a:solidFill>
            <a:srgbClr val="87a452"/>
          </a:solidFill>
          <a:ln w="12600">
            <a:solidFill>
              <a:srgbClr val="6277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7a452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65960" indent="-165960">
              <a:lnSpc>
                <a:spcPct val="90000"/>
              </a:lnSpc>
              <a:spcBef>
                <a:spcPts val="75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Click to edit the outline text format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1" marL="49896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con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2" marL="83124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Thir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3" marL="116388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our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4" marL="149652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if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5" marL="1496520" indent="-165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ix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6" marL="1496520" indent="-165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ven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28584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6114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0471-904D-4468-AED0-1A1EB1573090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KSO_TEMPLATE" hidden="1"/>
          <p:cNvSpPr/>
          <p:nvPr/>
        </p:nvSpPr>
        <p:spPr>
          <a:xfrm>
            <a:off x="0" y="857160"/>
            <a:ext cx="360" cy="360"/>
          </a:xfrm>
          <a:prstGeom prst="rect">
            <a:avLst/>
          </a:prstGeom>
          <a:solidFill>
            <a:srgbClr val="87a452"/>
          </a:solidFill>
          <a:ln w="12600">
            <a:solidFill>
              <a:srgbClr val="6277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7a452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65960" indent="-165960">
              <a:lnSpc>
                <a:spcPct val="90000"/>
              </a:lnSpc>
              <a:spcBef>
                <a:spcPts val="75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Click to edit the outline text format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1" marL="49896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con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2" marL="83124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Thir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3" marL="116388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our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4" marL="149652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if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5" marL="1496520" indent="-165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ix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6" marL="1496520" indent="-165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ven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28584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6114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1946-8F3C-4849-B165-5C3AB1C71485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KSO_TEMPLATE" hidden="1"/>
          <p:cNvSpPr/>
          <p:nvPr/>
        </p:nvSpPr>
        <p:spPr>
          <a:xfrm>
            <a:off x="0" y="857160"/>
            <a:ext cx="360" cy="360"/>
          </a:xfrm>
          <a:prstGeom prst="rect">
            <a:avLst/>
          </a:prstGeom>
          <a:solidFill>
            <a:srgbClr val="87a452"/>
          </a:solidFill>
          <a:ln w="12600">
            <a:solidFill>
              <a:srgbClr val="6277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矩形 1"/>
          <p:cNvGrpSpPr/>
          <p:nvPr/>
        </p:nvGrpSpPr>
        <p:grpSpPr>
          <a:xfrm>
            <a:off x="4645080" y="3687840"/>
            <a:ext cx="1249200" cy="1322280"/>
            <a:chOff x="4645080" y="3687840"/>
            <a:chExt cx="1249200" cy="1322280"/>
          </a:xfrm>
        </p:grpSpPr>
        <p:pic>
          <p:nvPicPr>
            <p:cNvPr id="505" name="矩形 1" descr=""/>
            <p:cNvPicPr/>
            <p:nvPr/>
          </p:nvPicPr>
          <p:blipFill>
            <a:blip r:embed="rId3"/>
            <a:stretch/>
          </p:blipFill>
          <p:spPr>
            <a:xfrm>
              <a:off x="4645080" y="3687840"/>
              <a:ext cx="124920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 rot="19394400">
              <a:off x="4902120" y="3798360"/>
              <a:ext cx="731880" cy="10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椭圆 6"/>
          <p:cNvSpPr/>
          <p:nvPr/>
        </p:nvSpPr>
        <p:spPr>
          <a:xfrm>
            <a:off x="4503600" y="3544920"/>
            <a:ext cx="782640" cy="782640"/>
          </a:xfrm>
          <a:prstGeom prst="ellipse">
            <a:avLst/>
          </a:prstGeom>
          <a:solidFill>
            <a:srgbClr val="63b4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700" spc="-1" strike="noStrike">
                <a:solidFill>
                  <a:srgbClr val="ffffff"/>
                </a:solidFill>
                <a:latin typeface="Arial"/>
                <a:ea typeface="黑体"/>
              </a:rPr>
              <a:t>N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矩形 8"/>
          <p:cNvGrpSpPr/>
          <p:nvPr/>
        </p:nvGrpSpPr>
        <p:grpSpPr>
          <a:xfrm>
            <a:off x="3645000" y="3687840"/>
            <a:ext cx="1251000" cy="1322280"/>
            <a:chOff x="3645000" y="3687840"/>
            <a:chExt cx="1251000" cy="1322280"/>
          </a:xfrm>
        </p:grpSpPr>
        <p:pic>
          <p:nvPicPr>
            <p:cNvPr id="509" name="矩形 8" descr=""/>
            <p:cNvPicPr/>
            <p:nvPr/>
          </p:nvPicPr>
          <p:blipFill>
            <a:blip r:embed="rId4"/>
            <a:stretch/>
          </p:blipFill>
          <p:spPr>
            <a:xfrm>
              <a:off x="3645000" y="3687840"/>
              <a:ext cx="125100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"/>
            <p:cNvSpPr/>
            <p:nvPr/>
          </p:nvSpPr>
          <p:spPr>
            <a:xfrm rot="19394400">
              <a:off x="3906720" y="3798360"/>
              <a:ext cx="731880" cy="10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椭圆 9"/>
          <p:cNvSpPr/>
          <p:nvPr/>
        </p:nvSpPr>
        <p:spPr>
          <a:xfrm>
            <a:off x="3508200" y="3544920"/>
            <a:ext cx="782640" cy="782640"/>
          </a:xfrm>
          <a:prstGeom prst="ellipse">
            <a:avLst/>
          </a:prstGeom>
          <a:solidFill>
            <a:srgbClr val="87a4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700" spc="-1" strike="noStrike">
                <a:solidFill>
                  <a:srgbClr val="ffffff"/>
                </a:solidFill>
                <a:latin typeface="Arial"/>
                <a:ea typeface="黑体"/>
              </a:rPr>
              <a:t>A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矩形 10"/>
          <p:cNvGrpSpPr/>
          <p:nvPr/>
        </p:nvGrpSpPr>
        <p:grpSpPr>
          <a:xfrm>
            <a:off x="2651040" y="3687840"/>
            <a:ext cx="1251000" cy="1322280"/>
            <a:chOff x="2651040" y="3687840"/>
            <a:chExt cx="1251000" cy="1322280"/>
          </a:xfrm>
        </p:grpSpPr>
        <p:pic>
          <p:nvPicPr>
            <p:cNvPr id="513" name="矩形 10" descr=""/>
            <p:cNvPicPr/>
            <p:nvPr/>
          </p:nvPicPr>
          <p:blipFill>
            <a:blip r:embed="rId5"/>
            <a:stretch/>
          </p:blipFill>
          <p:spPr>
            <a:xfrm>
              <a:off x="2651040" y="3687840"/>
              <a:ext cx="125100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19394400">
              <a:off x="2912760" y="3798360"/>
              <a:ext cx="730080" cy="10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椭圆 11"/>
          <p:cNvSpPr/>
          <p:nvPr/>
        </p:nvSpPr>
        <p:spPr>
          <a:xfrm>
            <a:off x="2514600" y="3544920"/>
            <a:ext cx="781200" cy="782640"/>
          </a:xfrm>
          <a:prstGeom prst="ellipse">
            <a:avLst/>
          </a:prstGeom>
          <a:solidFill>
            <a:srgbClr val="63b4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700" spc="-1" strike="noStrike">
                <a:solidFill>
                  <a:srgbClr val="ffffff"/>
                </a:solidFill>
                <a:latin typeface="Arial"/>
                <a:ea typeface="黑体"/>
              </a:rPr>
              <a:t>H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矩形 12"/>
          <p:cNvGrpSpPr/>
          <p:nvPr/>
        </p:nvGrpSpPr>
        <p:grpSpPr>
          <a:xfrm>
            <a:off x="1657440" y="3687840"/>
            <a:ext cx="1251000" cy="1322280"/>
            <a:chOff x="1657440" y="3687840"/>
            <a:chExt cx="1251000" cy="1322280"/>
          </a:xfrm>
        </p:grpSpPr>
        <p:pic>
          <p:nvPicPr>
            <p:cNvPr id="517" name="矩形 12" descr=""/>
            <p:cNvPicPr/>
            <p:nvPr/>
          </p:nvPicPr>
          <p:blipFill>
            <a:blip r:embed="rId6"/>
            <a:stretch/>
          </p:blipFill>
          <p:spPr>
            <a:xfrm>
              <a:off x="1657440" y="3687840"/>
              <a:ext cx="125100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"/>
            <p:cNvSpPr/>
            <p:nvPr/>
          </p:nvSpPr>
          <p:spPr>
            <a:xfrm rot="19394400">
              <a:off x="1917360" y="3798360"/>
              <a:ext cx="730080" cy="10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椭圆 13"/>
          <p:cNvSpPr/>
          <p:nvPr/>
        </p:nvSpPr>
        <p:spPr>
          <a:xfrm>
            <a:off x="1519200" y="3544920"/>
            <a:ext cx="782640" cy="782640"/>
          </a:xfrm>
          <a:prstGeom prst="ellipse">
            <a:avLst/>
          </a:prstGeom>
          <a:solidFill>
            <a:srgbClr val="87a4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700" spc="-1" strike="noStrike">
                <a:solidFill>
                  <a:srgbClr val="ffffff"/>
                </a:solidFill>
                <a:latin typeface="Arial"/>
                <a:ea typeface="黑体"/>
              </a:rPr>
              <a:t>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矩形 14"/>
          <p:cNvGrpSpPr/>
          <p:nvPr/>
        </p:nvGrpSpPr>
        <p:grpSpPr>
          <a:xfrm>
            <a:off x="5638680" y="3687840"/>
            <a:ext cx="1249560" cy="1322280"/>
            <a:chOff x="5638680" y="3687840"/>
            <a:chExt cx="1249560" cy="1322280"/>
          </a:xfrm>
        </p:grpSpPr>
        <p:pic>
          <p:nvPicPr>
            <p:cNvPr id="521" name="矩形 14" descr=""/>
            <p:cNvPicPr/>
            <p:nvPr/>
          </p:nvPicPr>
          <p:blipFill>
            <a:blip r:embed="rId7"/>
            <a:stretch/>
          </p:blipFill>
          <p:spPr>
            <a:xfrm>
              <a:off x="5638680" y="3687840"/>
              <a:ext cx="124956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"/>
            <p:cNvSpPr/>
            <p:nvPr/>
          </p:nvSpPr>
          <p:spPr>
            <a:xfrm rot="19394400">
              <a:off x="5898960" y="3798360"/>
              <a:ext cx="730080" cy="10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椭圆 15"/>
          <p:cNvSpPr/>
          <p:nvPr/>
        </p:nvSpPr>
        <p:spPr>
          <a:xfrm>
            <a:off x="5500800" y="3544920"/>
            <a:ext cx="780840" cy="782640"/>
          </a:xfrm>
          <a:prstGeom prst="ellipse">
            <a:avLst/>
          </a:prstGeom>
          <a:solidFill>
            <a:srgbClr val="87a4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700" spc="-1" strike="noStrike">
                <a:solidFill>
                  <a:srgbClr val="ffffff"/>
                </a:solidFill>
                <a:latin typeface="Arial"/>
                <a:ea typeface="黑体"/>
              </a:rPr>
              <a:t>K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矩形 16"/>
          <p:cNvGrpSpPr/>
          <p:nvPr/>
        </p:nvGrpSpPr>
        <p:grpSpPr>
          <a:xfrm>
            <a:off x="6632640" y="3687840"/>
            <a:ext cx="1249200" cy="1322280"/>
            <a:chOff x="6632640" y="3687840"/>
            <a:chExt cx="1249200" cy="1322280"/>
          </a:xfrm>
        </p:grpSpPr>
        <p:pic>
          <p:nvPicPr>
            <p:cNvPr id="525" name="矩形 16" descr=""/>
            <p:cNvPicPr/>
            <p:nvPr/>
          </p:nvPicPr>
          <p:blipFill>
            <a:blip r:embed="rId8"/>
            <a:stretch/>
          </p:blipFill>
          <p:spPr>
            <a:xfrm>
              <a:off x="6632640" y="3687840"/>
              <a:ext cx="124920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 rot="19394400">
              <a:off x="6894000" y="3798360"/>
              <a:ext cx="730440" cy="10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椭圆 17"/>
          <p:cNvSpPr/>
          <p:nvPr/>
        </p:nvSpPr>
        <p:spPr>
          <a:xfrm>
            <a:off x="6496200" y="3544920"/>
            <a:ext cx="782640" cy="782640"/>
          </a:xfrm>
          <a:prstGeom prst="ellipse">
            <a:avLst/>
          </a:prstGeom>
          <a:solidFill>
            <a:srgbClr val="63b4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700" spc="-1" strike="noStrike">
                <a:solidFill>
                  <a:srgbClr val="ffffff"/>
                </a:solidFill>
                <a:latin typeface="Arial"/>
                <a:ea typeface="黑体"/>
              </a:rPr>
              <a:t>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7a452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65960" indent="-165960">
              <a:lnSpc>
                <a:spcPct val="90000"/>
              </a:lnSpc>
              <a:spcBef>
                <a:spcPts val="75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Click to edit the outline text format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1" marL="49896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con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2" marL="83124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Thir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3" marL="116388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our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4" marL="149652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if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5" marL="1496520" indent="-165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ix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6" marL="1496520" indent="-165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ven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37"/>
          </p:nvPr>
        </p:nvSpPr>
        <p:spPr>
          <a:xfrm>
            <a:off x="28584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38"/>
          </p:nvPr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39"/>
          </p:nvPr>
        </p:nvSpPr>
        <p:spPr>
          <a:xfrm>
            <a:off x="6114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B7C1-9E2C-4D69-AF7D-21A05B123EEC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9"/>
    <p:sldLayoutId id="2147483806" r:id="rId10"/>
    <p:sldLayoutId id="2147483807" r:id="rId11"/>
    <p:sldLayoutId id="2147483808" r:id="rId12"/>
    <p:sldLayoutId id="2147483809" r:id="rId13"/>
    <p:sldLayoutId id="2147483810" r:id="rId14"/>
    <p:sldLayoutId id="2147483811" r:id="rId15"/>
    <p:sldLayoutId id="2147483812" r:id="rId16"/>
    <p:sldLayoutId id="2147483813" r:id="rId17"/>
    <p:sldLayoutId id="2147483814" r:id="rId18"/>
    <p:sldLayoutId id="2147483815" r:id="rId19"/>
    <p:sldLayoutId id="2147483816" r:id="rId20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KSO_TEMPLATE" hidden="1"/>
          <p:cNvSpPr/>
          <p:nvPr/>
        </p:nvSpPr>
        <p:spPr>
          <a:xfrm>
            <a:off x="0" y="857160"/>
            <a:ext cx="360" cy="360"/>
          </a:xfrm>
          <a:prstGeom prst="rect">
            <a:avLst/>
          </a:prstGeom>
          <a:solidFill>
            <a:srgbClr val="87a452"/>
          </a:solidFill>
          <a:ln w="12600">
            <a:solidFill>
              <a:srgbClr val="6277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图片 5" descr=""/>
          <p:cNvPicPr/>
          <p:nvPr/>
        </p:nvPicPr>
        <p:blipFill>
          <a:blip r:embed="rId2"/>
          <a:stretch/>
        </p:blipFill>
        <p:spPr>
          <a:xfrm>
            <a:off x="0" y="4651200"/>
            <a:ext cx="9144000" cy="2206800"/>
          </a:xfrm>
          <a:prstGeom prst="rect">
            <a:avLst/>
          </a:prstGeom>
          <a:ln w="0">
            <a:noFill/>
          </a:ln>
        </p:spPr>
      </p:pic>
      <p:grpSp>
        <p:nvGrpSpPr>
          <p:cNvPr id="571" name="组合 8"/>
          <p:cNvGrpSpPr/>
          <p:nvPr/>
        </p:nvGrpSpPr>
        <p:grpSpPr>
          <a:xfrm>
            <a:off x="8008920" y="384120"/>
            <a:ext cx="655560" cy="776520"/>
            <a:chOff x="8008920" y="384120"/>
            <a:chExt cx="655560" cy="776520"/>
          </a:xfrm>
        </p:grpSpPr>
        <p:sp>
          <p:nvSpPr>
            <p:cNvPr id="572" name="MH_Others_1"/>
            <p:cNvSpPr/>
            <p:nvPr/>
          </p:nvSpPr>
          <p:spPr>
            <a:xfrm>
              <a:off x="8008920" y="384120"/>
              <a:ext cx="555840" cy="551160"/>
            </a:xfrm>
            <a:prstGeom prst="ellipse">
              <a:avLst/>
            </a:prstGeom>
            <a:solidFill>
              <a:srgbClr val="87a4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MH_Others_2"/>
            <p:cNvSpPr/>
            <p:nvPr/>
          </p:nvSpPr>
          <p:spPr>
            <a:xfrm>
              <a:off x="8299440" y="800280"/>
              <a:ext cx="365040" cy="36036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63b4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7a452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65960" indent="-165960">
              <a:lnSpc>
                <a:spcPct val="90000"/>
              </a:lnSpc>
              <a:spcBef>
                <a:spcPts val="75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Click to edit the outline text format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1" marL="49896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con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2" marL="83124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Thir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3" marL="116388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our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4" marL="149652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if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5" marL="1496520" indent="-165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ix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6" marL="1496520" indent="-165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ven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0"/>
          </p:nvPr>
        </p:nvSpPr>
        <p:spPr>
          <a:xfrm>
            <a:off x="28584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1"/>
          </p:nvPr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2"/>
          </p:nvPr>
        </p:nvSpPr>
        <p:spPr>
          <a:xfrm>
            <a:off x="6114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9D32-A6A1-4A7B-8BEA-9FC227FAE927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8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KSO_TEMPLATE" hidden="1"/>
          <p:cNvSpPr/>
          <p:nvPr/>
        </p:nvSpPr>
        <p:spPr>
          <a:xfrm>
            <a:off x="0" y="857160"/>
            <a:ext cx="360" cy="360"/>
          </a:xfrm>
          <a:prstGeom prst="rect">
            <a:avLst/>
          </a:prstGeom>
          <a:solidFill>
            <a:srgbClr val="87a452"/>
          </a:solidFill>
          <a:ln w="12600">
            <a:solidFill>
              <a:srgbClr val="6277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矩形 1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图片 8" descr=""/>
          <p:cNvPicPr/>
          <p:nvPr/>
        </p:nvPicPr>
        <p:blipFill>
          <a:blip r:embed="rId2"/>
          <a:stretch/>
        </p:blipFill>
        <p:spPr>
          <a:xfrm>
            <a:off x="0" y="4651200"/>
            <a:ext cx="9144000" cy="220680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7a452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65960" indent="-165960">
              <a:lnSpc>
                <a:spcPct val="90000"/>
              </a:lnSpc>
              <a:spcBef>
                <a:spcPts val="75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Click to edit the outline text format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1" marL="49896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con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2" marL="83124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Thir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3" marL="116388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our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4" marL="149652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if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5" marL="1496520" indent="-165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ix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6" marL="1496520" indent="-165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ven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43"/>
          </p:nvPr>
        </p:nvSpPr>
        <p:spPr>
          <a:xfrm>
            <a:off x="28584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44"/>
          </p:nvPr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45"/>
          </p:nvPr>
        </p:nvSpPr>
        <p:spPr>
          <a:xfrm>
            <a:off x="6114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AC89-9462-470B-9891-4BA8845974F8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KSO_TEMPLATE" hidden="1"/>
          <p:cNvSpPr/>
          <p:nvPr/>
        </p:nvSpPr>
        <p:spPr>
          <a:xfrm>
            <a:off x="0" y="857160"/>
            <a:ext cx="360" cy="360"/>
          </a:xfrm>
          <a:prstGeom prst="rect">
            <a:avLst/>
          </a:prstGeom>
          <a:solidFill>
            <a:srgbClr val="87a452"/>
          </a:solidFill>
          <a:ln w="12600">
            <a:solidFill>
              <a:srgbClr val="6277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矩形 1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5f8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图片 10" descr=""/>
          <p:cNvPicPr/>
          <p:nvPr/>
        </p:nvPicPr>
        <p:blipFill>
          <a:blip r:embed="rId2"/>
          <a:stretch/>
        </p:blipFill>
        <p:spPr>
          <a:xfrm>
            <a:off x="0" y="5686560"/>
            <a:ext cx="1312920" cy="1171440"/>
          </a:xfrm>
          <a:prstGeom prst="rect">
            <a:avLst/>
          </a:prstGeom>
          <a:ln w="0">
            <a:noFill/>
          </a:ln>
        </p:spPr>
      </p:pic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7a452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65960" indent="-165960">
              <a:lnSpc>
                <a:spcPct val="90000"/>
              </a:lnSpc>
              <a:spcBef>
                <a:spcPts val="75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Click to edit the outline text format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1" marL="49896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con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2" marL="83124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Thir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3" marL="116388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our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4" marL="149652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if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5" marL="1496520" indent="-165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ix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6" marL="1496520" indent="-165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ven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46"/>
          </p:nvPr>
        </p:nvSpPr>
        <p:spPr>
          <a:xfrm>
            <a:off x="28584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47"/>
          </p:nvPr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48"/>
          </p:nvPr>
        </p:nvSpPr>
        <p:spPr>
          <a:xfrm>
            <a:off x="6114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8EBA-8DAA-45F9-B530-F89CC7571C08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KSO_TEMPLATE" hidden="1"/>
          <p:cNvSpPr/>
          <p:nvPr/>
        </p:nvSpPr>
        <p:spPr>
          <a:xfrm>
            <a:off x="0" y="857160"/>
            <a:ext cx="360" cy="360"/>
          </a:xfrm>
          <a:prstGeom prst="rect">
            <a:avLst/>
          </a:prstGeom>
          <a:solidFill>
            <a:srgbClr val="87a452"/>
          </a:solidFill>
          <a:ln w="12600">
            <a:solidFill>
              <a:srgbClr val="6277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矩形 1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5f8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5" name="组合 10"/>
          <p:cNvGrpSpPr/>
          <p:nvPr/>
        </p:nvGrpSpPr>
        <p:grpSpPr>
          <a:xfrm>
            <a:off x="214200" y="422280"/>
            <a:ext cx="655920" cy="776160"/>
            <a:chOff x="214200" y="422280"/>
            <a:chExt cx="655920" cy="776160"/>
          </a:xfrm>
        </p:grpSpPr>
        <p:sp>
          <p:nvSpPr>
            <p:cNvPr id="706" name="MH_Others_1"/>
            <p:cNvSpPr/>
            <p:nvPr/>
          </p:nvSpPr>
          <p:spPr>
            <a:xfrm>
              <a:off x="214200" y="422280"/>
              <a:ext cx="555840" cy="550800"/>
            </a:xfrm>
            <a:prstGeom prst="ellipse">
              <a:avLst/>
            </a:prstGeom>
            <a:solidFill>
              <a:srgbClr val="87a4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MH_Others_2"/>
            <p:cNvSpPr/>
            <p:nvPr/>
          </p:nvSpPr>
          <p:spPr>
            <a:xfrm>
              <a:off x="504720" y="838080"/>
              <a:ext cx="365400" cy="36036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63b4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8" name="图片 13" descr=""/>
          <p:cNvPicPr/>
          <p:nvPr/>
        </p:nvPicPr>
        <p:blipFill>
          <a:blip r:embed="rId2"/>
          <a:stretch/>
        </p:blipFill>
        <p:spPr>
          <a:xfrm>
            <a:off x="7831080" y="5686560"/>
            <a:ext cx="1312920" cy="1171440"/>
          </a:xfrm>
          <a:prstGeom prst="rect">
            <a:avLst/>
          </a:prstGeom>
          <a:ln w="0">
            <a:noFill/>
          </a:ln>
        </p:spPr>
      </p:pic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7a452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65960" indent="-165960">
              <a:lnSpc>
                <a:spcPct val="90000"/>
              </a:lnSpc>
              <a:spcBef>
                <a:spcPts val="75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Click to edit the outline text format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1" marL="49896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con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2" marL="83124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Thir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3" marL="116388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our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4" marL="149652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if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5" marL="1496520" indent="-165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ix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6" marL="1496520" indent="-165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ven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49"/>
          </p:nvPr>
        </p:nvSpPr>
        <p:spPr>
          <a:xfrm>
            <a:off x="28584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50"/>
          </p:nvPr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51"/>
          </p:nvPr>
        </p:nvSpPr>
        <p:spPr>
          <a:xfrm>
            <a:off x="6114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95B8-44A0-44A8-8D57-4A293DB78335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KSO_TEMPLATE" hidden="1"/>
          <p:cNvSpPr/>
          <p:nvPr/>
        </p:nvSpPr>
        <p:spPr>
          <a:xfrm>
            <a:off x="0" y="857160"/>
            <a:ext cx="360" cy="360"/>
          </a:xfrm>
          <a:prstGeom prst="rect">
            <a:avLst/>
          </a:prstGeom>
          <a:solidFill>
            <a:srgbClr val="87a452"/>
          </a:solidFill>
          <a:ln w="12600">
            <a:solidFill>
              <a:srgbClr val="6277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矩形 1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5f8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组合 9"/>
          <p:cNvGrpSpPr/>
          <p:nvPr/>
        </p:nvGrpSpPr>
        <p:grpSpPr>
          <a:xfrm>
            <a:off x="214200" y="1098720"/>
            <a:ext cx="655920" cy="776160"/>
            <a:chOff x="214200" y="1098720"/>
            <a:chExt cx="655920" cy="776160"/>
          </a:xfrm>
        </p:grpSpPr>
        <p:sp>
          <p:nvSpPr>
            <p:cNvPr id="753" name="MH_Others_1"/>
            <p:cNvSpPr/>
            <p:nvPr/>
          </p:nvSpPr>
          <p:spPr>
            <a:xfrm>
              <a:off x="214200" y="1098720"/>
              <a:ext cx="555840" cy="550800"/>
            </a:xfrm>
            <a:prstGeom prst="ellipse">
              <a:avLst/>
            </a:prstGeom>
            <a:solidFill>
              <a:srgbClr val="87a4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MH_Others_2"/>
            <p:cNvSpPr/>
            <p:nvPr/>
          </p:nvSpPr>
          <p:spPr>
            <a:xfrm>
              <a:off x="504720" y="1514520"/>
              <a:ext cx="365400" cy="36036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63b4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组合 12"/>
          <p:cNvGrpSpPr/>
          <p:nvPr/>
        </p:nvGrpSpPr>
        <p:grpSpPr>
          <a:xfrm>
            <a:off x="8258040" y="5156280"/>
            <a:ext cx="655920" cy="776160"/>
            <a:chOff x="8258040" y="5156280"/>
            <a:chExt cx="655920" cy="776160"/>
          </a:xfrm>
        </p:grpSpPr>
        <p:sp>
          <p:nvSpPr>
            <p:cNvPr id="756" name="MH_Others_1"/>
            <p:cNvSpPr/>
            <p:nvPr/>
          </p:nvSpPr>
          <p:spPr>
            <a:xfrm>
              <a:off x="8258040" y="5156280"/>
              <a:ext cx="555840" cy="550800"/>
            </a:xfrm>
            <a:prstGeom prst="ellipse">
              <a:avLst/>
            </a:prstGeom>
            <a:solidFill>
              <a:srgbClr val="87a4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MH_Others_2"/>
            <p:cNvSpPr/>
            <p:nvPr/>
          </p:nvSpPr>
          <p:spPr>
            <a:xfrm>
              <a:off x="8548560" y="5572080"/>
              <a:ext cx="365400" cy="36036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63b4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7a452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65960" indent="-165960">
              <a:lnSpc>
                <a:spcPct val="90000"/>
              </a:lnSpc>
              <a:spcBef>
                <a:spcPts val="75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Click to edit the outline text format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1" marL="49896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con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2" marL="83124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Thir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3" marL="116388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our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4" marL="149652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if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5" marL="1496520" indent="-165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ix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6" marL="1496520" indent="-165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ven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52"/>
          </p:nvPr>
        </p:nvSpPr>
        <p:spPr>
          <a:xfrm>
            <a:off x="28584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53"/>
          </p:nvPr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54"/>
          </p:nvPr>
        </p:nvSpPr>
        <p:spPr>
          <a:xfrm>
            <a:off x="6114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E348-F445-412B-A7D7-4D936F26E2D2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KSO_TEMPLATE" hidden="1"/>
          <p:cNvSpPr/>
          <p:nvPr/>
        </p:nvSpPr>
        <p:spPr>
          <a:xfrm>
            <a:off x="0" y="857160"/>
            <a:ext cx="360" cy="360"/>
          </a:xfrm>
          <a:prstGeom prst="rect">
            <a:avLst/>
          </a:prstGeom>
          <a:solidFill>
            <a:srgbClr val="87a452"/>
          </a:solidFill>
          <a:ln w="12600">
            <a:solidFill>
              <a:srgbClr val="6277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矩形 1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5f8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图片 11" descr=""/>
          <p:cNvPicPr/>
          <p:nvPr/>
        </p:nvPicPr>
        <p:blipFill>
          <a:blip r:embed="rId2"/>
          <a:stretch/>
        </p:blipFill>
        <p:spPr>
          <a:xfrm>
            <a:off x="7621560" y="5499000"/>
            <a:ext cx="1522440" cy="1359000"/>
          </a:xfrm>
          <a:prstGeom prst="rect">
            <a:avLst/>
          </a:prstGeom>
          <a:ln w="0">
            <a:noFill/>
          </a:ln>
        </p:spPr>
      </p:pic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7a452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65960" indent="-165960">
              <a:lnSpc>
                <a:spcPct val="90000"/>
              </a:lnSpc>
              <a:spcBef>
                <a:spcPts val="75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Click to edit the outline text format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1" marL="49896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con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2" marL="83124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Thir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3" marL="116388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our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4" marL="149652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if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5" marL="1496520" indent="-165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ix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6" marL="1496520" indent="-165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ven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 type="dt" idx="55"/>
          </p:nvPr>
        </p:nvSpPr>
        <p:spPr>
          <a:xfrm>
            <a:off x="28584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 type="ftr" idx="56"/>
          </p:nvPr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 type="sldNum" idx="57"/>
          </p:nvPr>
        </p:nvSpPr>
        <p:spPr>
          <a:xfrm>
            <a:off x="6114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BD2B-BB37-4176-84E3-587D062A588E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7a452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65960" indent="-165960">
              <a:lnSpc>
                <a:spcPct val="90000"/>
              </a:lnSpc>
              <a:spcBef>
                <a:spcPts val="75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Click to edit the outline text format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1" marL="49896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con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2" marL="83124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Thir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3" marL="116388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our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4" marL="149652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if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5" marL="1496520" indent="-165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ix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6" marL="1496520" indent="-165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ven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5624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562428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5624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4B07-9257-4161-937A-D04FA5C6B991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857160"/>
            <a:ext cx="360" cy="360"/>
          </a:xfrm>
          <a:prstGeom prst="rect">
            <a:avLst/>
          </a:prstGeom>
          <a:solidFill>
            <a:srgbClr val="87a452"/>
          </a:solidFill>
          <a:ln w="12600">
            <a:solidFill>
              <a:srgbClr val="6277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KSO_TEMPLATE" hidden="1"/>
          <p:cNvSpPr/>
          <p:nvPr/>
        </p:nvSpPr>
        <p:spPr>
          <a:xfrm>
            <a:off x="0" y="857160"/>
            <a:ext cx="360" cy="360"/>
          </a:xfrm>
          <a:prstGeom prst="rect">
            <a:avLst/>
          </a:prstGeom>
          <a:solidFill>
            <a:srgbClr val="87a452"/>
          </a:solidFill>
          <a:ln w="12600">
            <a:solidFill>
              <a:srgbClr val="6277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矩形 1"/>
          <p:cNvSpPr/>
          <p:nvPr/>
        </p:nvSpPr>
        <p:spPr>
          <a:xfrm>
            <a:off x="0" y="1576440"/>
            <a:ext cx="9144000" cy="3705120"/>
          </a:xfrm>
          <a:prstGeom prst="rect">
            <a:avLst/>
          </a:prstGeom>
          <a:solidFill>
            <a:srgbClr val="f5f8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5" name="组合 7"/>
          <p:cNvGrpSpPr/>
          <p:nvPr/>
        </p:nvGrpSpPr>
        <p:grpSpPr>
          <a:xfrm>
            <a:off x="214200" y="422280"/>
            <a:ext cx="655920" cy="776160"/>
            <a:chOff x="214200" y="422280"/>
            <a:chExt cx="655920" cy="776160"/>
          </a:xfrm>
        </p:grpSpPr>
        <p:sp>
          <p:nvSpPr>
            <p:cNvPr id="846" name="MH_Others_1"/>
            <p:cNvSpPr/>
            <p:nvPr/>
          </p:nvSpPr>
          <p:spPr>
            <a:xfrm>
              <a:off x="214200" y="422280"/>
              <a:ext cx="555840" cy="550800"/>
            </a:xfrm>
            <a:prstGeom prst="ellipse">
              <a:avLst/>
            </a:prstGeom>
            <a:solidFill>
              <a:srgbClr val="87a4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MH_Others_2"/>
            <p:cNvSpPr/>
            <p:nvPr/>
          </p:nvSpPr>
          <p:spPr>
            <a:xfrm>
              <a:off x="504720" y="838080"/>
              <a:ext cx="365400" cy="360360"/>
            </a:xfrm>
            <a:prstGeom prst="ellipse">
              <a:avLst/>
            </a:prstGeom>
            <a:solidFill>
              <a:srgbClr val="ffffff"/>
            </a:solidFill>
            <a:ln w="22320">
              <a:solidFill>
                <a:srgbClr val="63b48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8" name="图片 11" descr=""/>
          <p:cNvPicPr/>
          <p:nvPr/>
        </p:nvPicPr>
        <p:blipFill>
          <a:blip r:embed="rId2"/>
          <a:stretch/>
        </p:blipFill>
        <p:spPr>
          <a:xfrm>
            <a:off x="6657840" y="4638600"/>
            <a:ext cx="2486160" cy="2219400"/>
          </a:xfrm>
          <a:prstGeom prst="rect">
            <a:avLst/>
          </a:prstGeom>
          <a:ln w="0">
            <a:noFill/>
          </a:ln>
        </p:spPr>
      </p:pic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7a452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65960" indent="-165960">
              <a:lnSpc>
                <a:spcPct val="90000"/>
              </a:lnSpc>
              <a:spcBef>
                <a:spcPts val="75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Click to edit the outline text format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1" marL="49896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con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2" marL="83124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Thir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3" marL="116388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our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4" marL="149652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if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5" marL="1496520" indent="-165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ix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6" marL="1496520" indent="-165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ven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 type="dt" idx="58"/>
          </p:nvPr>
        </p:nvSpPr>
        <p:spPr>
          <a:xfrm>
            <a:off x="28584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 type="ftr" idx="59"/>
          </p:nvPr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 type="sldNum" idx="60"/>
          </p:nvPr>
        </p:nvSpPr>
        <p:spPr>
          <a:xfrm>
            <a:off x="6114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BB36-68DA-42AF-AACF-D5965BAD44E9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KSO_TEMPLATE" hidden="1"/>
          <p:cNvSpPr/>
          <p:nvPr/>
        </p:nvSpPr>
        <p:spPr>
          <a:xfrm>
            <a:off x="0" y="857160"/>
            <a:ext cx="360" cy="360"/>
          </a:xfrm>
          <a:prstGeom prst="rect">
            <a:avLst/>
          </a:prstGeom>
          <a:solidFill>
            <a:srgbClr val="87a452"/>
          </a:solidFill>
          <a:ln w="12600">
            <a:solidFill>
              <a:srgbClr val="6277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7a452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65960" indent="-165960">
              <a:lnSpc>
                <a:spcPct val="90000"/>
              </a:lnSpc>
              <a:spcBef>
                <a:spcPts val="75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Click to edit the outline text format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1" marL="49896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con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2" marL="83124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Thir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3" marL="116388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our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4" marL="149652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if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5" marL="1496520" indent="-165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ix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6" marL="1496520" indent="-165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ven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28584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114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9AB32-B38E-413B-BB8E-288723C8F698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KSO_TEMPLATE" hidden="1"/>
          <p:cNvSpPr/>
          <p:nvPr/>
        </p:nvSpPr>
        <p:spPr>
          <a:xfrm>
            <a:off x="0" y="857160"/>
            <a:ext cx="360" cy="360"/>
          </a:xfrm>
          <a:prstGeom prst="rect">
            <a:avLst/>
          </a:prstGeom>
          <a:solidFill>
            <a:srgbClr val="87a452"/>
          </a:solidFill>
          <a:ln w="12600">
            <a:solidFill>
              <a:srgbClr val="6277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7a452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65960" indent="-165960">
              <a:lnSpc>
                <a:spcPct val="90000"/>
              </a:lnSpc>
              <a:spcBef>
                <a:spcPts val="75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Click to edit the outline text format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1" marL="49896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con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2" marL="83124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Thir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3" marL="116388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our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4" marL="149652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if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5" marL="1496520" indent="-165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ix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6" marL="1496520" indent="-165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ven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28584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114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F398-2C5B-48DA-94DA-4042E7516944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KSO_TEMPLATE" hidden="1"/>
          <p:cNvSpPr/>
          <p:nvPr/>
        </p:nvSpPr>
        <p:spPr>
          <a:xfrm>
            <a:off x="0" y="857160"/>
            <a:ext cx="360" cy="360"/>
          </a:xfrm>
          <a:prstGeom prst="rect">
            <a:avLst/>
          </a:prstGeom>
          <a:solidFill>
            <a:srgbClr val="87a452"/>
          </a:solidFill>
          <a:ln w="12600">
            <a:solidFill>
              <a:srgbClr val="6277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7a452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65960" indent="-165960">
              <a:lnSpc>
                <a:spcPct val="90000"/>
              </a:lnSpc>
              <a:spcBef>
                <a:spcPts val="75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Click to edit the outline text format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1" marL="49896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con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2" marL="83124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Thir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3" marL="116388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our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4" marL="149652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if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5" marL="1496520" indent="-165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ix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6" marL="1496520" indent="-165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ven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28584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114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259C-AF84-4B86-B6C6-94DF6A0FDB07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KSO_TEMPLATE" hidden="1"/>
          <p:cNvSpPr/>
          <p:nvPr/>
        </p:nvSpPr>
        <p:spPr>
          <a:xfrm>
            <a:off x="0" y="857160"/>
            <a:ext cx="360" cy="360"/>
          </a:xfrm>
          <a:prstGeom prst="rect">
            <a:avLst/>
          </a:prstGeom>
          <a:solidFill>
            <a:srgbClr val="87a452"/>
          </a:solidFill>
          <a:ln w="12600">
            <a:solidFill>
              <a:srgbClr val="6277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7a452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65960" indent="-165960">
              <a:lnSpc>
                <a:spcPct val="90000"/>
              </a:lnSpc>
              <a:spcBef>
                <a:spcPts val="75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Click to edit the outline text format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1" marL="49896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con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2" marL="83124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Thir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3" marL="116388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our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4" marL="149652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if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5" marL="1496520" indent="-165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ix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6" marL="1496520" indent="-165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ven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28584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114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4EF19-D083-41CA-898F-A50410953ADA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KSO_TEMPLATE" hidden="1"/>
          <p:cNvSpPr/>
          <p:nvPr/>
        </p:nvSpPr>
        <p:spPr>
          <a:xfrm>
            <a:off x="0" y="857160"/>
            <a:ext cx="360" cy="360"/>
          </a:xfrm>
          <a:prstGeom prst="rect">
            <a:avLst/>
          </a:prstGeom>
          <a:solidFill>
            <a:srgbClr val="87a452"/>
          </a:solidFill>
          <a:ln w="12600">
            <a:solidFill>
              <a:srgbClr val="6277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7a452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65960" indent="-165960">
              <a:lnSpc>
                <a:spcPct val="90000"/>
              </a:lnSpc>
              <a:spcBef>
                <a:spcPts val="75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Click to edit the outline text format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1" marL="49896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con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2" marL="83124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Thir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3" marL="116388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our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4" marL="149652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if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5" marL="1496520" indent="-165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ix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6" marL="1496520" indent="-165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ven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28584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114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5F8A-FB57-4290-91FF-72E429B32311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KSO_TEMPLATE" hidden="1"/>
          <p:cNvSpPr/>
          <p:nvPr/>
        </p:nvSpPr>
        <p:spPr>
          <a:xfrm>
            <a:off x="0" y="857160"/>
            <a:ext cx="360" cy="360"/>
          </a:xfrm>
          <a:prstGeom prst="rect">
            <a:avLst/>
          </a:prstGeom>
          <a:solidFill>
            <a:srgbClr val="87a452"/>
          </a:solidFill>
          <a:ln w="12600">
            <a:solidFill>
              <a:srgbClr val="6277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7a452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65960" indent="-165960">
              <a:lnSpc>
                <a:spcPct val="90000"/>
              </a:lnSpc>
              <a:spcBef>
                <a:spcPts val="75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Click to edit the outline text format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1" marL="49896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con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2" marL="83124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Thir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3" marL="116388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our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4" marL="149652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if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5" marL="1496520" indent="-165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ix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6" marL="1496520" indent="-165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ven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28584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114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05C3-7FD9-4B67-A482-2157D842AA22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KSO_TEMPLATE" hidden="1"/>
          <p:cNvSpPr/>
          <p:nvPr/>
        </p:nvSpPr>
        <p:spPr>
          <a:xfrm>
            <a:off x="0" y="857160"/>
            <a:ext cx="360" cy="360"/>
          </a:xfrm>
          <a:prstGeom prst="rect">
            <a:avLst/>
          </a:prstGeom>
          <a:solidFill>
            <a:srgbClr val="87a452"/>
          </a:solidFill>
          <a:ln w="12600">
            <a:solidFill>
              <a:srgbClr val="6277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1131480"/>
            <a:ext cx="7886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7a452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28560" y="1983960"/>
            <a:ext cx="7886880" cy="25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65960" indent="-165960">
              <a:lnSpc>
                <a:spcPct val="90000"/>
              </a:lnSpc>
              <a:spcBef>
                <a:spcPts val="75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Click to edit the outline text format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1" marL="49896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con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2" marL="83124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Third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3" marL="116388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our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4" marL="1496520" indent="-165960">
              <a:lnSpc>
                <a:spcPct val="90000"/>
              </a:lnSpc>
              <a:spcBef>
                <a:spcPts val="751"/>
              </a:spcBef>
              <a:buClr>
                <a:srgbClr val="657b3e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Fif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5" marL="1496520" indent="-165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ix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lvl="6" marL="1496520" indent="-165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Seventh Outline Level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28584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251460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11496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7E9C-691F-476D-AB1B-813BA558D351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27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3678120" y="3333240"/>
            <a:ext cx="5237280" cy="88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300" spc="-1" strike="noStrike">
                <a:solidFill>
                  <a:srgbClr val="657b3e"/>
                </a:solidFill>
                <a:latin typeface="Arial"/>
              </a:rPr>
              <a:t>动态规划好题选讲</a:t>
            </a:r>
            <a:endParaRPr b="1" lang="en-US" sz="33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subTitle"/>
          </p:nvPr>
        </p:nvSpPr>
        <p:spPr>
          <a:xfrm>
            <a:off x="2805120" y="4538160"/>
            <a:ext cx="698328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sz="1300" spc="-1" strike="noStrike">
              <a:solidFill>
                <a:srgbClr val="5387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28560" y="47124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7a452"/>
                </a:solidFill>
                <a:latin typeface="黑体"/>
              </a:rPr>
              <a:t>[ZJOI2016] </a:t>
            </a:r>
            <a:r>
              <a:rPr b="1" lang="zh-CN" sz="2400" spc="-1" strike="noStrike">
                <a:solidFill>
                  <a:srgbClr val="87a452"/>
                </a:solidFill>
                <a:latin typeface="黑体"/>
              </a:rPr>
              <a:t>小星星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739440" y="1267920"/>
            <a:ext cx="776124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657b3e"/>
                </a:solidFill>
                <a:latin typeface="黑体"/>
              </a:rPr>
              <a:t>另一种做法：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pic>
        <p:nvPicPr>
          <p:cNvPr id="923" name="图片 4" descr=""/>
          <p:cNvPicPr/>
          <p:nvPr/>
        </p:nvPicPr>
        <p:blipFill>
          <a:blip r:embed="rId1"/>
          <a:stretch/>
        </p:blipFill>
        <p:spPr>
          <a:xfrm>
            <a:off x="250920" y="1805040"/>
            <a:ext cx="846144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28560" y="47124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7a452"/>
                </a:solidFill>
                <a:latin typeface="黑体"/>
              </a:rPr>
              <a:t>[</a:t>
            </a:r>
            <a:r>
              <a:rPr b="1" lang="zh-CN" sz="2400" spc="-1" strike="noStrike">
                <a:solidFill>
                  <a:srgbClr val="87a452"/>
                </a:solidFill>
                <a:latin typeface="黑体"/>
              </a:rPr>
              <a:t>省选联考 </a:t>
            </a:r>
            <a:r>
              <a:rPr b="1" lang="en-US" sz="2400" spc="-1" strike="noStrike">
                <a:solidFill>
                  <a:srgbClr val="87a452"/>
                </a:solidFill>
                <a:latin typeface="黑体"/>
              </a:rPr>
              <a:t>2022] </a:t>
            </a:r>
            <a:r>
              <a:rPr b="1" lang="zh-CN" sz="2400" spc="-1" strike="noStrike">
                <a:solidFill>
                  <a:srgbClr val="87a452"/>
                </a:solidFill>
                <a:latin typeface="黑体"/>
              </a:rPr>
              <a:t>卡牌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pic>
        <p:nvPicPr>
          <p:cNvPr id="925" name="内容占位符 4" descr=""/>
          <p:cNvPicPr/>
          <p:nvPr/>
        </p:nvPicPr>
        <p:blipFill>
          <a:blip r:embed="rId1"/>
          <a:stretch/>
        </p:blipFill>
        <p:spPr>
          <a:xfrm>
            <a:off x="692280" y="1119240"/>
            <a:ext cx="7759440" cy="2425680"/>
          </a:xfrm>
          <a:prstGeom prst="rect">
            <a:avLst/>
          </a:prstGeom>
          <a:ln w="0">
            <a:noFill/>
          </a:ln>
        </p:spPr>
      </p:pic>
      <p:pic>
        <p:nvPicPr>
          <p:cNvPr id="926" name="图片 6" descr=""/>
          <p:cNvPicPr/>
          <p:nvPr/>
        </p:nvPicPr>
        <p:blipFill>
          <a:blip r:embed="rId2"/>
          <a:stretch/>
        </p:blipFill>
        <p:spPr>
          <a:xfrm>
            <a:off x="692280" y="3459240"/>
            <a:ext cx="395100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28560" y="47124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7a452"/>
                </a:solidFill>
                <a:latin typeface="黑体"/>
              </a:rPr>
              <a:t>[</a:t>
            </a:r>
            <a:r>
              <a:rPr b="1" lang="zh-CN" sz="2400" spc="-1" strike="noStrike">
                <a:solidFill>
                  <a:srgbClr val="87a452"/>
                </a:solidFill>
                <a:latin typeface="黑体"/>
              </a:rPr>
              <a:t>省选联考 </a:t>
            </a:r>
            <a:r>
              <a:rPr b="1" lang="en-US" sz="2400" spc="-1" strike="noStrike">
                <a:solidFill>
                  <a:srgbClr val="87a452"/>
                </a:solidFill>
                <a:latin typeface="黑体"/>
              </a:rPr>
              <a:t>2022] </a:t>
            </a:r>
            <a:r>
              <a:rPr b="1" lang="zh-CN" sz="2400" spc="-1" strike="noStrike">
                <a:solidFill>
                  <a:srgbClr val="87a452"/>
                </a:solidFill>
                <a:latin typeface="黑体"/>
              </a:rPr>
              <a:t>卡牌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pic>
        <p:nvPicPr>
          <p:cNvPr id="928" name="内容占位符 4" descr=""/>
          <p:cNvPicPr/>
          <p:nvPr/>
        </p:nvPicPr>
        <p:blipFill>
          <a:blip r:embed="rId1"/>
          <a:stretch/>
        </p:blipFill>
        <p:spPr>
          <a:xfrm>
            <a:off x="539640" y="1407960"/>
            <a:ext cx="814068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28560" y="47124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7a452"/>
                </a:solidFill>
                <a:latin typeface="黑体"/>
              </a:rPr>
              <a:t>[POI2014] HOT-Hotels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628560" y="1267920"/>
            <a:ext cx="7416720" cy="34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657b3e"/>
                </a:solidFill>
                <a:latin typeface="黑体"/>
              </a:rPr>
              <a:t>给定一棵树，在树上选三个点，要求两两距离相等，求方案数。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n ≤5000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28560" y="47124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7a452"/>
                </a:solidFill>
                <a:latin typeface="黑体"/>
              </a:rPr>
              <a:t>[POI2014] HOT-Hotels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-685800" y="1501920"/>
            <a:ext cx="10515600" cy="34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pic>
        <p:nvPicPr>
          <p:cNvPr id="933" name="图片 4" descr=""/>
          <p:cNvPicPr/>
          <p:nvPr/>
        </p:nvPicPr>
        <p:blipFill>
          <a:blip r:embed="rId1"/>
          <a:stretch/>
        </p:blipFill>
        <p:spPr>
          <a:xfrm>
            <a:off x="549360" y="1112760"/>
            <a:ext cx="804528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28560" y="47124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7a452"/>
                </a:solidFill>
                <a:latin typeface="黑体"/>
              </a:rPr>
              <a:t>[POI2014] HOT-Hotels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pic>
        <p:nvPicPr>
          <p:cNvPr id="935" name="内容占位符 10" descr=""/>
          <p:cNvPicPr/>
          <p:nvPr/>
        </p:nvPicPr>
        <p:blipFill>
          <a:blip r:embed="rId1"/>
          <a:stretch/>
        </p:blipFill>
        <p:spPr>
          <a:xfrm>
            <a:off x="3448080" y="3040200"/>
            <a:ext cx="2247840" cy="390240"/>
          </a:xfrm>
          <a:prstGeom prst="rect">
            <a:avLst/>
          </a:prstGeom>
          <a:ln w="0">
            <a:noFill/>
          </a:ln>
        </p:spPr>
      </p:pic>
      <p:pic>
        <p:nvPicPr>
          <p:cNvPr id="936" name="图片 4" descr=""/>
          <p:cNvPicPr/>
          <p:nvPr/>
        </p:nvPicPr>
        <p:blipFill>
          <a:blip r:embed="rId2"/>
          <a:stretch/>
        </p:blipFill>
        <p:spPr>
          <a:xfrm>
            <a:off x="689040" y="4173480"/>
            <a:ext cx="7859520" cy="2238480"/>
          </a:xfrm>
          <a:prstGeom prst="rect">
            <a:avLst/>
          </a:prstGeom>
          <a:ln w="0">
            <a:noFill/>
          </a:ln>
        </p:spPr>
      </p:pic>
      <p:pic>
        <p:nvPicPr>
          <p:cNvPr id="937" name="图片 6" descr=""/>
          <p:cNvPicPr/>
          <p:nvPr/>
        </p:nvPicPr>
        <p:blipFill>
          <a:blip r:embed="rId3"/>
          <a:stretch/>
        </p:blipFill>
        <p:spPr>
          <a:xfrm>
            <a:off x="689040" y="1233360"/>
            <a:ext cx="6246720" cy="2940120"/>
          </a:xfrm>
          <a:prstGeom prst="rect">
            <a:avLst/>
          </a:prstGeom>
          <a:ln w="0">
            <a:noFill/>
          </a:ln>
        </p:spPr>
      </p:pic>
      <p:pic>
        <p:nvPicPr>
          <p:cNvPr id="938" name="图片 8" descr=""/>
          <p:cNvPicPr/>
          <p:nvPr/>
        </p:nvPicPr>
        <p:blipFill>
          <a:blip r:embed="rId4"/>
          <a:stretch/>
        </p:blipFill>
        <p:spPr>
          <a:xfrm>
            <a:off x="5148360" y="1257480"/>
            <a:ext cx="2448000" cy="639720"/>
          </a:xfrm>
          <a:prstGeom prst="rect">
            <a:avLst/>
          </a:prstGeom>
          <a:ln w="0">
            <a:noFill/>
          </a:ln>
        </p:spPr>
      </p:pic>
      <p:pic>
        <p:nvPicPr>
          <p:cNvPr id="939" name="图片 12" descr=""/>
          <p:cNvPicPr/>
          <p:nvPr/>
        </p:nvPicPr>
        <p:blipFill>
          <a:blip r:embed="rId5"/>
          <a:stretch/>
        </p:blipFill>
        <p:spPr>
          <a:xfrm>
            <a:off x="5132520" y="1919160"/>
            <a:ext cx="2882880" cy="501840"/>
          </a:xfrm>
          <a:prstGeom prst="rect">
            <a:avLst/>
          </a:prstGeom>
          <a:ln w="0">
            <a:noFill/>
          </a:ln>
        </p:spPr>
      </p:pic>
      <p:pic>
        <p:nvPicPr>
          <p:cNvPr id="940" name="图片 14" descr=""/>
          <p:cNvPicPr/>
          <p:nvPr/>
        </p:nvPicPr>
        <p:blipFill>
          <a:blip r:embed="rId6"/>
          <a:stretch/>
        </p:blipFill>
        <p:spPr>
          <a:xfrm>
            <a:off x="5127480" y="2494080"/>
            <a:ext cx="3084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28560" y="47124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7a452"/>
                </a:solidFill>
                <a:latin typeface="黑体"/>
              </a:rPr>
              <a:t>[CF1557D] Ezzat and Grid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-685800" y="1501920"/>
            <a:ext cx="10515600" cy="34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pic>
        <p:nvPicPr>
          <p:cNvPr id="943" name="图片 4" descr=""/>
          <p:cNvPicPr/>
          <p:nvPr/>
        </p:nvPicPr>
        <p:blipFill>
          <a:blip r:embed="rId1"/>
          <a:stretch/>
        </p:blipFill>
        <p:spPr>
          <a:xfrm>
            <a:off x="378000" y="1413000"/>
            <a:ext cx="838800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28560" y="47124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7a452"/>
                </a:solidFill>
                <a:latin typeface="黑体"/>
              </a:rPr>
              <a:t>[CF1557D] Ezzat and Grid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685800" y="1501920"/>
            <a:ext cx="10515600" cy="34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pic>
        <p:nvPicPr>
          <p:cNvPr id="946" name="图片 4" descr=""/>
          <p:cNvPicPr/>
          <p:nvPr/>
        </p:nvPicPr>
        <p:blipFill>
          <a:blip r:embed="rId1"/>
          <a:stretch/>
        </p:blipFill>
        <p:spPr>
          <a:xfrm>
            <a:off x="841320" y="1501920"/>
            <a:ext cx="7674120" cy="32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28560" y="47124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7a452"/>
                </a:solidFill>
                <a:latin typeface="黑体"/>
              </a:rPr>
              <a:t>CF1525D Armchairs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900" name=""/>
          <p:cNvSpPr txBox="1"/>
          <p:nvPr/>
        </p:nvSpPr>
        <p:spPr>
          <a:xfrm>
            <a:off x="628560" y="1501920"/>
            <a:ext cx="7886880" cy="34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657b3e"/>
                </a:solidFill>
                <a:latin typeface="黑体"/>
              </a:rPr>
              <a:t>    </a:t>
            </a:r>
            <a:r>
              <a:rPr b="0" lang="zh-CN" sz="2100" spc="-1" strike="noStrike">
                <a:solidFill>
                  <a:srgbClr val="657b3e"/>
                </a:solidFill>
                <a:latin typeface="黑体"/>
              </a:rPr>
              <a:t>有</a:t>
            </a: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n</a:t>
            </a:r>
            <a:r>
              <a:rPr b="0" lang="zh-CN" sz="2100" spc="-1" strike="noStrike">
                <a:solidFill>
                  <a:srgbClr val="657b3e"/>
                </a:solidFill>
                <a:latin typeface="黑体"/>
              </a:rPr>
              <a:t>个位置排成一排，每个位置要么是空的</a:t>
            </a: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(0),</a:t>
            </a:r>
            <a:r>
              <a:rPr b="0" lang="zh-CN" sz="2100" spc="-1" strike="noStrike">
                <a:solidFill>
                  <a:srgbClr val="657b3e"/>
                </a:solidFill>
                <a:latin typeface="黑体"/>
              </a:rPr>
              <a:t>要么已经有人</a:t>
            </a: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(1),</a:t>
            </a:r>
            <a:r>
              <a:rPr b="0" lang="zh-CN" sz="2100" spc="-1" strike="noStrike">
                <a:solidFill>
                  <a:srgbClr val="657b3e"/>
                </a:solidFill>
                <a:latin typeface="黑体"/>
              </a:rPr>
              <a:t>把一个人从</a:t>
            </a: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i</a:t>
            </a:r>
            <a:r>
              <a:rPr b="0" lang="zh-CN" sz="2100" spc="-1" strike="noStrike">
                <a:solidFill>
                  <a:srgbClr val="657b3e"/>
                </a:solidFill>
                <a:latin typeface="黑体"/>
              </a:rPr>
              <a:t>位置移动到</a:t>
            </a: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j</a:t>
            </a:r>
            <a:r>
              <a:rPr b="0" lang="zh-CN" sz="2100" spc="-1" strike="noStrike">
                <a:solidFill>
                  <a:srgbClr val="657b3e"/>
                </a:solidFill>
                <a:latin typeface="黑体"/>
              </a:rPr>
              <a:t>位置需要花费代价</a:t>
            </a: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|i-j|</a:t>
            </a:r>
            <a:r>
              <a:rPr b="0" lang="zh-CN" sz="2100" spc="-1" strike="noStrike">
                <a:solidFill>
                  <a:srgbClr val="657b3e"/>
                </a:solidFill>
                <a:latin typeface="黑体"/>
              </a:rPr>
              <a:t>。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    </a:t>
            </a:r>
            <a:r>
              <a:rPr b="0" lang="zh-CN" sz="2100" spc="-1" strike="noStrike">
                <a:solidFill>
                  <a:srgbClr val="657b3e"/>
                </a:solidFill>
                <a:latin typeface="黑体"/>
              </a:rPr>
              <a:t>问腾空原来已经有人的位置至少需要多少代价。</a:t>
            </a: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n≤5000</a:t>
            </a:r>
            <a:r>
              <a:rPr b="0" lang="zh-CN" sz="2100" spc="-1" strike="noStrike">
                <a:solidFill>
                  <a:srgbClr val="657b3e"/>
                </a:solidFill>
                <a:latin typeface="黑体"/>
              </a:rPr>
              <a:t>，数据保证有解。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28560" y="47124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7a452"/>
                </a:solidFill>
                <a:latin typeface="黑体"/>
              </a:rPr>
              <a:t>CF1525D Armchairs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pic>
        <p:nvPicPr>
          <p:cNvPr id="902" name="内容占位符 4" descr=""/>
          <p:cNvPicPr/>
          <p:nvPr/>
        </p:nvPicPr>
        <p:blipFill>
          <a:blip r:embed="rId1"/>
          <a:stretch/>
        </p:blipFill>
        <p:spPr>
          <a:xfrm>
            <a:off x="709560" y="1413000"/>
            <a:ext cx="783108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28560" y="47124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7a452"/>
                </a:solidFill>
                <a:latin typeface="黑体"/>
              </a:rPr>
              <a:t>[SCOI2009] </a:t>
            </a:r>
            <a:r>
              <a:rPr b="1" lang="zh-CN" sz="2400" spc="-1" strike="noStrike">
                <a:solidFill>
                  <a:srgbClr val="87a452"/>
                </a:solidFill>
                <a:latin typeface="黑体"/>
              </a:rPr>
              <a:t>粉刷匠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628560" y="1413000"/>
            <a:ext cx="7886880" cy="34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pic>
        <p:nvPicPr>
          <p:cNvPr id="905" name="图片 4" descr=""/>
          <p:cNvPicPr/>
          <p:nvPr/>
        </p:nvPicPr>
        <p:blipFill>
          <a:blip r:embed="rId1"/>
          <a:stretch/>
        </p:blipFill>
        <p:spPr>
          <a:xfrm>
            <a:off x="628560" y="1409760"/>
            <a:ext cx="840744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28560" y="47124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7a452"/>
                </a:solidFill>
                <a:latin typeface="黑体"/>
              </a:rPr>
              <a:t>[SCOI2009] </a:t>
            </a:r>
            <a:r>
              <a:rPr b="1" lang="zh-CN" sz="2400" spc="-1" strike="noStrike">
                <a:solidFill>
                  <a:srgbClr val="87a452"/>
                </a:solidFill>
                <a:latin typeface="黑体"/>
              </a:rPr>
              <a:t>粉刷匠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611280" y="1501920"/>
            <a:ext cx="8354880" cy="34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pic>
        <p:nvPicPr>
          <p:cNvPr id="908" name="图片 2" descr=""/>
          <p:cNvPicPr/>
          <p:nvPr/>
        </p:nvPicPr>
        <p:blipFill>
          <a:blip r:embed="rId1"/>
          <a:stretch/>
        </p:blipFill>
        <p:spPr>
          <a:xfrm>
            <a:off x="611280" y="1112760"/>
            <a:ext cx="683424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28560" y="47124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7a452"/>
                </a:solidFill>
                <a:latin typeface="黑体"/>
              </a:rPr>
              <a:t>[CSP-S2019] Emiya </a:t>
            </a:r>
            <a:r>
              <a:rPr b="1" lang="zh-CN" sz="2400" spc="-1" strike="noStrike">
                <a:solidFill>
                  <a:srgbClr val="87a452"/>
                </a:solidFill>
                <a:latin typeface="黑体"/>
              </a:rPr>
              <a:t>家今天的饭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628560" y="1501920"/>
            <a:ext cx="10515600" cy="34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pic>
        <p:nvPicPr>
          <p:cNvPr id="911" name="图片 2" descr=""/>
          <p:cNvPicPr/>
          <p:nvPr/>
        </p:nvPicPr>
        <p:blipFill>
          <a:blip r:embed="rId1"/>
          <a:stretch/>
        </p:blipFill>
        <p:spPr>
          <a:xfrm>
            <a:off x="631800" y="1084320"/>
            <a:ext cx="7170840" cy="4865760"/>
          </a:xfrm>
          <a:prstGeom prst="rect">
            <a:avLst/>
          </a:prstGeom>
          <a:ln w="0">
            <a:noFill/>
          </a:ln>
        </p:spPr>
      </p:pic>
      <p:pic>
        <p:nvPicPr>
          <p:cNvPr id="912" name="图片 4" descr=""/>
          <p:cNvPicPr/>
          <p:nvPr/>
        </p:nvPicPr>
        <p:blipFill>
          <a:blip r:embed="rId2"/>
          <a:stretch/>
        </p:blipFill>
        <p:spPr>
          <a:xfrm>
            <a:off x="628560" y="5935680"/>
            <a:ext cx="5743800" cy="38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28560" y="47124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7a452"/>
                </a:solidFill>
                <a:latin typeface="黑体"/>
              </a:rPr>
              <a:t>[CSP-S2019] Emiya </a:t>
            </a:r>
            <a:r>
              <a:rPr b="1" lang="zh-CN" sz="2400" spc="-1" strike="noStrike">
                <a:solidFill>
                  <a:srgbClr val="87a452"/>
                </a:solidFill>
                <a:latin typeface="黑体"/>
              </a:rPr>
              <a:t>家今天的饭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pic>
        <p:nvPicPr>
          <p:cNvPr id="914" name="内容占位符 4" descr=""/>
          <p:cNvPicPr/>
          <p:nvPr/>
        </p:nvPicPr>
        <p:blipFill>
          <a:blip r:embed="rId1"/>
          <a:stretch/>
        </p:blipFill>
        <p:spPr>
          <a:xfrm>
            <a:off x="628560" y="1197000"/>
            <a:ext cx="70390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28560" y="47124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7a452"/>
                </a:solidFill>
                <a:latin typeface="黑体"/>
              </a:rPr>
              <a:t>[ZJOI2016] </a:t>
            </a:r>
            <a:r>
              <a:rPr b="1" lang="zh-CN" sz="2400" spc="-1" strike="noStrike">
                <a:solidFill>
                  <a:srgbClr val="87a452"/>
                </a:solidFill>
                <a:latin typeface="黑体"/>
              </a:rPr>
              <a:t>小星星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628560" y="1341000"/>
            <a:ext cx="7886880" cy="34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657b3e"/>
                </a:solidFill>
                <a:latin typeface="黑体"/>
              </a:rPr>
              <a:t>给定一个</a:t>
            </a: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n</a:t>
            </a:r>
            <a:r>
              <a:rPr b="0" lang="zh-CN" sz="2100" spc="-1" strike="noStrike">
                <a:solidFill>
                  <a:srgbClr val="657b3e"/>
                </a:solidFill>
                <a:latin typeface="黑体"/>
              </a:rPr>
              <a:t>个节点的树和一个</a:t>
            </a: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n</a:t>
            </a:r>
            <a:r>
              <a:rPr b="0" lang="zh-CN" sz="2100" spc="-1" strike="noStrike">
                <a:solidFill>
                  <a:srgbClr val="657b3e"/>
                </a:solidFill>
                <a:latin typeface="黑体"/>
              </a:rPr>
              <a:t>个节点的图，编号</a:t>
            </a: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1-n</a:t>
            </a:r>
            <a:r>
              <a:rPr b="0" lang="zh-CN" sz="2100" spc="-1" strike="noStrike">
                <a:solidFill>
                  <a:srgbClr val="657b3e"/>
                </a:solidFill>
                <a:latin typeface="黑体"/>
              </a:rPr>
              <a:t> </a:t>
            </a:r>
            <a:r>
              <a:rPr b="0" lang="zh-CN" sz="2100" spc="-1" strike="noStrike">
                <a:solidFill>
                  <a:srgbClr val="657b3e"/>
                </a:solidFill>
                <a:latin typeface="黑体"/>
              </a:rPr>
              <a:t>，要求给树上的的节点重新编号，使得对于树上任意一条边（</a:t>
            </a: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u</a:t>
            </a:r>
            <a:r>
              <a:rPr b="0" lang="zh-CN" sz="2100" spc="-1" strike="noStrike">
                <a:solidFill>
                  <a:srgbClr val="657b3e"/>
                </a:solidFill>
                <a:latin typeface="黑体"/>
              </a:rPr>
              <a:t>，</a:t>
            </a: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v),</a:t>
            </a:r>
            <a:r>
              <a:rPr b="0" lang="zh-CN" sz="2100" spc="-1" strike="noStrike">
                <a:solidFill>
                  <a:srgbClr val="657b3e"/>
                </a:solidFill>
                <a:latin typeface="黑体"/>
              </a:rPr>
              <a:t>途中一定也有一条</a:t>
            </a:r>
            <a:r>
              <a:rPr b="0" lang="en-US" sz="2100" spc="-1" strike="noStrike">
                <a:solidFill>
                  <a:srgbClr val="657b3e"/>
                </a:solidFill>
                <a:latin typeface="黑体"/>
              </a:rPr>
              <a:t>(u,v)</a:t>
            </a:r>
            <a:r>
              <a:rPr b="0" lang="zh-CN" sz="2100" spc="-1" strike="noStrike">
                <a:solidFill>
                  <a:srgbClr val="657b3e"/>
                </a:solidFill>
                <a:latin typeface="黑体"/>
              </a:rPr>
              <a:t>的边，求重新编号的方案数。</a:t>
            </a: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pic>
        <p:nvPicPr>
          <p:cNvPr id="917" name="图片 8" descr=""/>
          <p:cNvPicPr/>
          <p:nvPr/>
        </p:nvPicPr>
        <p:blipFill>
          <a:blip r:embed="rId1"/>
          <a:stretch/>
        </p:blipFill>
        <p:spPr>
          <a:xfrm>
            <a:off x="826920" y="2637000"/>
            <a:ext cx="556452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28560" y="471240"/>
            <a:ext cx="78868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400" spc="-1" strike="noStrike">
                <a:solidFill>
                  <a:srgbClr val="87a452"/>
                </a:solidFill>
                <a:latin typeface="黑体"/>
              </a:rPr>
              <a:t>[ZJOI2016] </a:t>
            </a:r>
            <a:r>
              <a:rPr b="1" lang="zh-CN" sz="2400" spc="-1" strike="noStrike">
                <a:solidFill>
                  <a:srgbClr val="87a452"/>
                </a:solidFill>
                <a:latin typeface="黑体"/>
              </a:rPr>
              <a:t>小星星</a:t>
            </a:r>
            <a:endParaRPr b="1" lang="en-US" sz="2400" spc="-1" strike="noStrike">
              <a:solidFill>
                <a:srgbClr val="87a452"/>
              </a:solidFill>
              <a:latin typeface="黑体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-685800" y="1501920"/>
            <a:ext cx="10515600" cy="34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87a452"/>
              </a:buClr>
              <a:buSzPct val="80000"/>
              <a:buFont typeface="Wingdings 2" charset="2"/>
              <a:buChar char="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657b3e"/>
              </a:solidFill>
              <a:latin typeface="黑体"/>
            </a:endParaRPr>
          </a:p>
        </p:txBody>
      </p:sp>
      <p:pic>
        <p:nvPicPr>
          <p:cNvPr id="920" name="图片 4" descr=""/>
          <p:cNvPicPr/>
          <p:nvPr/>
        </p:nvPicPr>
        <p:blipFill>
          <a:blip r:embed="rId1"/>
          <a:stretch/>
        </p:blipFill>
        <p:spPr>
          <a:xfrm>
            <a:off x="628560" y="1112760"/>
            <a:ext cx="8331120" cy="50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7-12T14:34:32Z</dcterms:created>
  <dc:creator>86186</dc:creator>
  <dc:description/>
  <dc:language>en-US</dc:language>
  <cp:lastModifiedBy>Josh S</cp:lastModifiedBy>
  <dcterms:modified xsi:type="dcterms:W3CDTF">2024-07-31T13:47:27Z</dcterms:modified>
  <cp:revision>41</cp:revision>
  <dc:subject/>
  <dc:title>Z函数（拓展KMP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94BAF65D37ED41A5B3D89AD901605F8C_12</vt:lpwstr>
  </property>
  <property fmtid="{D5CDD505-2E9C-101B-9397-08002B2CF9AE}" pid="3" name="KSOProductBuildVer">
    <vt:lpwstr>2052-11.1.0.14309</vt:lpwstr>
  </property>
</Properties>
</file>