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7924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12360" y="3525480"/>
            <a:ext cx="7924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160" y="12682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2360" y="35254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160" y="35254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2551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91840" y="1268280"/>
            <a:ext cx="2551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71680" y="1268280"/>
            <a:ext cx="2551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12360" y="3525480"/>
            <a:ext cx="2551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91840" y="3525480"/>
            <a:ext cx="2551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71680" y="3525480"/>
            <a:ext cx="2551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12360" y="1268280"/>
            <a:ext cx="79246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79246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38671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160" y="1268280"/>
            <a:ext cx="38671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360" y="189000"/>
            <a:ext cx="77724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160" y="1268280"/>
            <a:ext cx="38671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12360" y="35254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38671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12682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160" y="35254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12682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12360" y="3525480"/>
            <a:ext cx="7924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360" y="1268280"/>
            <a:ext cx="79246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25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宋体"/>
                <a:ea typeface="宋体"/>
              </a:rPr>
              <a:t>第</a:t>
            </a:r>
            <a:r>
              <a:rPr b="1" lang="en-US" sz="4800" spc="-1" strike="noStrike">
                <a:solidFill>
                  <a:srgbClr val="ffff00"/>
                </a:solidFill>
                <a:latin typeface="宋体"/>
                <a:ea typeface="宋体"/>
              </a:rPr>
              <a:t>6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  <a:ea typeface="宋体"/>
              </a:rPr>
              <a:t>节  图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1"/>
          <p:cNvSpPr/>
          <p:nvPr/>
        </p:nvSpPr>
        <p:spPr>
          <a:xfrm>
            <a:off x="539640" y="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、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P200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普及组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平面上有五个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(5, 3), B(3, 5), C(2, 1), D(3, 3), E(5, 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以这五点作为完全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顶点，每两点之间的直线距离是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中对应边的权值。以下哪条边不是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最小生成树中的边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AD      B.BD      C.CD       D.DE       E.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分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笛卡尔坐标系画出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生成树是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-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条总长最短的边连所有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41" descr=""/>
          <p:cNvPicPr/>
          <p:nvPr/>
        </p:nvPicPr>
        <p:blipFill>
          <a:blip r:embed="rId1"/>
          <a:stretch/>
        </p:blipFill>
        <p:spPr>
          <a:xfrm>
            <a:off x="1116000" y="3309840"/>
            <a:ext cx="6427800" cy="433440"/>
          </a:xfrm>
          <a:prstGeom prst="rect">
            <a:avLst/>
          </a:prstGeom>
          <a:ln w="0">
            <a:noFill/>
          </a:ln>
        </p:spPr>
      </p:pic>
      <p:sp>
        <p:nvSpPr>
          <p:cNvPr id="174" name="矩形 4"/>
          <p:cNvSpPr/>
          <p:nvPr/>
        </p:nvSpPr>
        <p:spPr>
          <a:xfrm>
            <a:off x="539640" y="2205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P200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提高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平面上有五个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(5, 3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(3, 5)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(2, 1)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(3, 3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(5, 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以这五点作为完全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顶点，每两点之间的直线距离是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中对应边的权值。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最小生成树中的所有边的权值综合为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5"/>
          <p:cNvSpPr/>
          <p:nvPr/>
        </p:nvSpPr>
        <p:spPr>
          <a:xfrm>
            <a:off x="539640" y="415296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分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根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ruskal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算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选取权值最小的、且不构成回路的边来产生最小生成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因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选出的边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,D), (A,E), (B,D), (C,D),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其权值和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+2+2+sqrt(5))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即答案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1" descr=""/>
          <p:cNvPicPr/>
          <p:nvPr/>
        </p:nvPicPr>
        <p:blipFill>
          <a:blip r:embed="rId2"/>
          <a:stretch/>
        </p:blipFill>
        <p:spPr>
          <a:xfrm>
            <a:off x="6337440" y="3902040"/>
            <a:ext cx="2842920" cy="2911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1"/>
          <p:cNvSpPr/>
          <p:nvPr/>
        </p:nvSpPr>
        <p:spPr>
          <a:xfrm>
            <a:off x="539640" y="0"/>
            <a:ext cx="82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P200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提高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欧拉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是指可以构成一个闭回路的图，且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每一条边恰好在这个闭回路上出现一次（即一笔画成）。在以下各个描述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不一定是欧拉图的是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中没有度为奇数的顶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包括欧拉环游的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欧拉环游是指通过图中每边恰好一次的闭路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包括欧拉闭迹的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欧拉迹是指通过途中每边恰好一次的路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存在一条回路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通过每个顶点恰好一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.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本身为闭迹的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分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通过每个顶点一次的是哈密尔顿图，欧拉图是每条边一次，一笔画问题，闭迹回到起点封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468360" y="313200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P2004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普及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某大学计算机专业的必修课及其先修课程如下表所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826920" y="3573360"/>
          <a:ext cx="7417080" cy="1150920"/>
        </p:xfrm>
        <a:graphic>
          <a:graphicData uri="http://schemas.openxmlformats.org/drawingml/2006/table">
            <a:tbl>
              <a:tblPr/>
              <a:tblGrid>
                <a:gridCol w="784440"/>
                <a:gridCol w="782640"/>
                <a:gridCol w="1028520"/>
                <a:gridCol w="782640"/>
                <a:gridCol w="784440"/>
                <a:gridCol w="782640"/>
                <a:gridCol w="784080"/>
                <a:gridCol w="782640"/>
                <a:gridCol w="905040"/>
              </a:tblGrid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课程代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C</a:t>
                      </a:r>
                      <a:r>
                        <a:rPr b="1" lang="en-U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C</a:t>
                      </a:r>
                      <a:r>
                        <a:rPr b="1" lang="en-U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C</a:t>
                      </a:r>
                      <a:r>
                        <a:rPr b="1" lang="en-U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C</a:t>
                      </a:r>
                      <a:r>
                        <a:rPr b="1" lang="en-U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C</a:t>
                      </a:r>
                      <a:r>
                        <a:rPr b="1" lang="en-U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C</a:t>
                      </a:r>
                      <a:r>
                        <a:rPr b="1" lang="en-U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C</a:t>
                      </a:r>
                      <a:r>
                        <a:rPr b="1" lang="en-U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C</a:t>
                      </a:r>
                      <a:r>
                        <a:rPr b="1" lang="en-U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课程名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高等数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程序设计语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离散数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数据结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编译技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操作系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普通物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计算机原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2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先修课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C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, C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C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, C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C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C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, C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C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C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80" name="矩形 5"/>
          <p:cNvSpPr/>
          <p:nvPr/>
        </p:nvSpPr>
        <p:spPr>
          <a:xfrm>
            <a:off x="468360" y="60339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分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拓扑排序：在学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5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之前要先学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7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答案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5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排在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前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708560" y="5128200"/>
            <a:ext cx="558252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A.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6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7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4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5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    B.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4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6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7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C.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6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7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4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5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    D.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6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7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5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E.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6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7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5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, C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826920" y="4859280"/>
            <a:ext cx="59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你判断下列课程安排方案哪个是不合理的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3750120" y="264492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569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Graph)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是一种复杂的非线性结构。在人工智能、工程、数学、物理、化学、生物和计算机科学等领域中，图结构有着广泛的应用。奥林匹克信息学竞赛的许多试题，亦需要用图来描述数据元素间的联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由两个集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组成，记为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G=(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E)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其中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是顶点的有穷非空集合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中顶点偶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称为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的有穷集。通常，也将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的顶点集和边集分别记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V(G)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E(G)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E(G)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可以是空集。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E(G)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为空，则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只有顶点而没有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什么是图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很简单，点用边连起来就叫做图，严格意义上讲，图是一种数据结构，定义为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graph=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）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是一个非空有限集合，代表顶点（结点）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代表边的集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图的一些定义和概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1. (a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有向图：图的边有方向，只能按箭头方向从一点到另一点。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(a)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就是一个有向图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. (b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无向图：图的边没有方向，可以双向。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(b)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就是一个无向图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3.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结点的度：无向图中与结点相连的边的数目，称为结点的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4.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结点的入度：在有向图中，以这个结点为终点的有向边的数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5.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结点的出度：在有向图中，以这个结点为起点的有向边的数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6.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权值：边的“费用”，可以形象地理解为边的长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7.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连通：如果图中结点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U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，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之间存在一条从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U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通过若干条边、点到达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的通路，则称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U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V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是连通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8.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回路：起点和终点相同的路径，称为回路，或“环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9.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完全图：一个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n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阶的完全无向图含有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n*(n-1)/2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条边；一个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n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阶的完全有向图含有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n*(n-1)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条边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　　　　稠密图：一个边数接近完全图的图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　　　　稀疏图：一个边数远远少于完全图的图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10.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强连通分量：有向图中任意两点都连通的最大子图。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下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图中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1-2-5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构成一个强连通分量。特殊地，单个点也算一个强连通分量，所以右图有三个强连通分量：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1-2-5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，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，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Group 4"/>
          <p:cNvGrpSpPr/>
          <p:nvPr/>
        </p:nvGrpSpPr>
        <p:grpSpPr>
          <a:xfrm>
            <a:off x="6084720" y="1052640"/>
            <a:ext cx="2571840" cy="1387080"/>
            <a:chOff x="6084720" y="1052640"/>
            <a:chExt cx="2571840" cy="1387080"/>
          </a:xfrm>
        </p:grpSpPr>
        <p:grpSp>
          <p:nvGrpSpPr>
            <p:cNvPr id="42" name="Group 5"/>
            <p:cNvGrpSpPr/>
            <p:nvPr/>
          </p:nvGrpSpPr>
          <p:grpSpPr>
            <a:xfrm>
              <a:off x="6084720" y="1052640"/>
              <a:ext cx="1200240" cy="1387080"/>
              <a:chOff x="6084720" y="1052640"/>
              <a:chExt cx="1200240" cy="1387080"/>
            </a:xfrm>
          </p:grpSpPr>
          <p:grpSp>
            <p:nvGrpSpPr>
              <p:cNvPr id="43" name="Group 6"/>
              <p:cNvGrpSpPr/>
              <p:nvPr/>
            </p:nvGrpSpPr>
            <p:grpSpPr>
              <a:xfrm>
                <a:off x="6084720" y="1052640"/>
                <a:ext cx="1200240" cy="1050120"/>
                <a:chOff x="6084720" y="1052640"/>
                <a:chExt cx="1200240" cy="1050120"/>
              </a:xfrm>
            </p:grpSpPr>
            <p:grpSp>
              <p:nvGrpSpPr>
                <p:cNvPr id="44" name="Group 7"/>
                <p:cNvGrpSpPr/>
                <p:nvPr/>
              </p:nvGrpSpPr>
              <p:grpSpPr>
                <a:xfrm>
                  <a:off x="6551280" y="1052640"/>
                  <a:ext cx="276120" cy="228600"/>
                  <a:chOff x="6551280" y="1052640"/>
                  <a:chExt cx="276120" cy="228600"/>
                </a:xfrm>
              </p:grpSpPr>
              <p:sp>
                <p:nvSpPr>
                  <p:cNvPr id="45" name="Oval 8"/>
                  <p:cNvSpPr/>
                  <p:nvPr/>
                </p:nvSpPr>
                <p:spPr>
                  <a:xfrm>
                    <a:off x="6598800" y="1052640"/>
                    <a:ext cx="228600" cy="22860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Text Box 9"/>
                  <p:cNvSpPr/>
                  <p:nvPr/>
                </p:nvSpPr>
                <p:spPr>
                  <a:xfrm>
                    <a:off x="6551280" y="1062000"/>
                    <a:ext cx="228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" name="Group 10"/>
                <p:cNvGrpSpPr/>
                <p:nvPr/>
              </p:nvGrpSpPr>
              <p:grpSpPr>
                <a:xfrm>
                  <a:off x="7008840" y="1449000"/>
                  <a:ext cx="276120" cy="228600"/>
                  <a:chOff x="7008840" y="1449000"/>
                  <a:chExt cx="276120" cy="228600"/>
                </a:xfrm>
              </p:grpSpPr>
              <p:sp>
                <p:nvSpPr>
                  <p:cNvPr id="48" name="Oval 11"/>
                  <p:cNvSpPr/>
                  <p:nvPr/>
                </p:nvSpPr>
                <p:spPr>
                  <a:xfrm>
                    <a:off x="7056360" y="1449000"/>
                    <a:ext cx="228600" cy="22860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Text Box 12"/>
                  <p:cNvSpPr/>
                  <p:nvPr/>
                </p:nvSpPr>
                <p:spPr>
                  <a:xfrm>
                    <a:off x="7008840" y="1458360"/>
                    <a:ext cx="228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" name="Group 13"/>
                <p:cNvGrpSpPr/>
                <p:nvPr/>
              </p:nvGrpSpPr>
              <p:grpSpPr>
                <a:xfrm>
                  <a:off x="6818040" y="1874160"/>
                  <a:ext cx="276120" cy="228600"/>
                  <a:chOff x="6818040" y="1874160"/>
                  <a:chExt cx="276120" cy="228600"/>
                </a:xfrm>
              </p:grpSpPr>
              <p:sp>
                <p:nvSpPr>
                  <p:cNvPr id="51" name="Oval 14"/>
                  <p:cNvSpPr/>
                  <p:nvPr/>
                </p:nvSpPr>
                <p:spPr>
                  <a:xfrm>
                    <a:off x="6865560" y="1874160"/>
                    <a:ext cx="228600" cy="22860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Text Box 15"/>
                  <p:cNvSpPr/>
                  <p:nvPr/>
                </p:nvSpPr>
                <p:spPr>
                  <a:xfrm>
                    <a:off x="6818040" y="1883520"/>
                    <a:ext cx="228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" name="Group 16"/>
                <p:cNvGrpSpPr/>
                <p:nvPr/>
              </p:nvGrpSpPr>
              <p:grpSpPr>
                <a:xfrm>
                  <a:off x="6322680" y="1866600"/>
                  <a:ext cx="276120" cy="228600"/>
                  <a:chOff x="6322680" y="1866600"/>
                  <a:chExt cx="276120" cy="228600"/>
                </a:xfrm>
              </p:grpSpPr>
              <p:sp>
                <p:nvSpPr>
                  <p:cNvPr id="54" name="Oval 17"/>
                  <p:cNvSpPr/>
                  <p:nvPr/>
                </p:nvSpPr>
                <p:spPr>
                  <a:xfrm>
                    <a:off x="6370200" y="1866600"/>
                    <a:ext cx="228600" cy="22860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Text Box 18"/>
                  <p:cNvSpPr/>
                  <p:nvPr/>
                </p:nvSpPr>
                <p:spPr>
                  <a:xfrm>
                    <a:off x="6322680" y="1875960"/>
                    <a:ext cx="228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" name="Group 19"/>
                <p:cNvGrpSpPr/>
                <p:nvPr/>
              </p:nvGrpSpPr>
              <p:grpSpPr>
                <a:xfrm>
                  <a:off x="6084720" y="1462320"/>
                  <a:ext cx="276120" cy="228600"/>
                  <a:chOff x="6084720" y="1462320"/>
                  <a:chExt cx="276120" cy="228600"/>
                </a:xfrm>
              </p:grpSpPr>
              <p:sp>
                <p:nvSpPr>
                  <p:cNvPr id="57" name="Oval 20"/>
                  <p:cNvSpPr/>
                  <p:nvPr/>
                </p:nvSpPr>
                <p:spPr>
                  <a:xfrm>
                    <a:off x="6132240" y="1462320"/>
                    <a:ext cx="228600" cy="22860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Text Box 21"/>
                  <p:cNvSpPr/>
                  <p:nvPr/>
                </p:nvSpPr>
                <p:spPr>
                  <a:xfrm>
                    <a:off x="6084720" y="1471680"/>
                    <a:ext cx="228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5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" name="Line 22"/>
                <p:cNvSpPr/>
                <p:nvPr/>
              </p:nvSpPr>
              <p:spPr>
                <a:xfrm flipV="1">
                  <a:off x="6351480" y="1263600"/>
                  <a:ext cx="304920" cy="28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Line 23"/>
                <p:cNvSpPr/>
                <p:nvPr/>
              </p:nvSpPr>
              <p:spPr>
                <a:xfrm>
                  <a:off x="6780240" y="1250640"/>
                  <a:ext cx="285480" cy="24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Line 24"/>
                <p:cNvSpPr/>
                <p:nvPr/>
              </p:nvSpPr>
              <p:spPr>
                <a:xfrm flipH="1">
                  <a:off x="6408000" y="1548000"/>
                  <a:ext cx="600120" cy="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Line 25"/>
                <p:cNvSpPr/>
                <p:nvPr/>
              </p:nvSpPr>
              <p:spPr>
                <a:xfrm flipH="1">
                  <a:off x="6551280" y="1298520"/>
                  <a:ext cx="133200" cy="590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26"/>
                <p:cNvSpPr/>
                <p:nvPr/>
              </p:nvSpPr>
              <p:spPr>
                <a:xfrm>
                  <a:off x="6732360" y="1303920"/>
                  <a:ext cx="180720" cy="56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Text Box 27"/>
              <p:cNvSpPr/>
              <p:nvPr/>
            </p:nvSpPr>
            <p:spPr>
              <a:xfrm>
                <a:off x="6427440" y="2241720"/>
                <a:ext cx="6858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8"/>
            <p:cNvGrpSpPr/>
            <p:nvPr/>
          </p:nvGrpSpPr>
          <p:grpSpPr>
            <a:xfrm>
              <a:off x="7456320" y="1052640"/>
              <a:ext cx="1200240" cy="1387080"/>
              <a:chOff x="7456320" y="1052640"/>
              <a:chExt cx="1200240" cy="1387080"/>
            </a:xfrm>
          </p:grpSpPr>
          <p:grpSp>
            <p:nvGrpSpPr>
              <p:cNvPr id="66" name="Group 29"/>
              <p:cNvGrpSpPr/>
              <p:nvPr/>
            </p:nvGrpSpPr>
            <p:grpSpPr>
              <a:xfrm>
                <a:off x="7456320" y="1052640"/>
                <a:ext cx="1200240" cy="1050120"/>
                <a:chOff x="7456320" y="1052640"/>
                <a:chExt cx="1200240" cy="1050120"/>
              </a:xfrm>
            </p:grpSpPr>
            <p:grpSp>
              <p:nvGrpSpPr>
                <p:cNvPr id="67" name="Group 30"/>
                <p:cNvGrpSpPr/>
                <p:nvPr/>
              </p:nvGrpSpPr>
              <p:grpSpPr>
                <a:xfrm>
                  <a:off x="7922880" y="1052640"/>
                  <a:ext cx="276120" cy="228600"/>
                  <a:chOff x="7922880" y="1052640"/>
                  <a:chExt cx="276120" cy="228600"/>
                </a:xfrm>
              </p:grpSpPr>
              <p:sp>
                <p:nvSpPr>
                  <p:cNvPr id="68" name="Oval 31"/>
                  <p:cNvSpPr/>
                  <p:nvPr/>
                </p:nvSpPr>
                <p:spPr>
                  <a:xfrm>
                    <a:off x="7970400" y="1052640"/>
                    <a:ext cx="228600" cy="22860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Text Box 32"/>
                  <p:cNvSpPr/>
                  <p:nvPr/>
                </p:nvSpPr>
                <p:spPr>
                  <a:xfrm>
                    <a:off x="7922880" y="1062000"/>
                    <a:ext cx="228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Group 33"/>
                <p:cNvGrpSpPr/>
                <p:nvPr/>
              </p:nvGrpSpPr>
              <p:grpSpPr>
                <a:xfrm>
                  <a:off x="8380440" y="1449000"/>
                  <a:ext cx="276120" cy="228600"/>
                  <a:chOff x="8380440" y="1449000"/>
                  <a:chExt cx="276120" cy="228600"/>
                </a:xfrm>
              </p:grpSpPr>
              <p:sp>
                <p:nvSpPr>
                  <p:cNvPr id="71" name="Oval 34"/>
                  <p:cNvSpPr/>
                  <p:nvPr/>
                </p:nvSpPr>
                <p:spPr>
                  <a:xfrm>
                    <a:off x="8427960" y="1449000"/>
                    <a:ext cx="228600" cy="22860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35"/>
                  <p:cNvSpPr/>
                  <p:nvPr/>
                </p:nvSpPr>
                <p:spPr>
                  <a:xfrm>
                    <a:off x="8380440" y="1458360"/>
                    <a:ext cx="228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Group 36"/>
                <p:cNvGrpSpPr/>
                <p:nvPr/>
              </p:nvGrpSpPr>
              <p:grpSpPr>
                <a:xfrm>
                  <a:off x="8189640" y="1874160"/>
                  <a:ext cx="276120" cy="228600"/>
                  <a:chOff x="8189640" y="1874160"/>
                  <a:chExt cx="276120" cy="228600"/>
                </a:xfrm>
              </p:grpSpPr>
              <p:sp>
                <p:nvSpPr>
                  <p:cNvPr id="74" name="Oval 37"/>
                  <p:cNvSpPr/>
                  <p:nvPr/>
                </p:nvSpPr>
                <p:spPr>
                  <a:xfrm>
                    <a:off x="8237160" y="1874160"/>
                    <a:ext cx="228600" cy="22860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Text Box 38"/>
                  <p:cNvSpPr/>
                  <p:nvPr/>
                </p:nvSpPr>
                <p:spPr>
                  <a:xfrm>
                    <a:off x="8189640" y="1883520"/>
                    <a:ext cx="228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Group 39"/>
                <p:cNvGrpSpPr/>
                <p:nvPr/>
              </p:nvGrpSpPr>
              <p:grpSpPr>
                <a:xfrm>
                  <a:off x="7694280" y="1866600"/>
                  <a:ext cx="276120" cy="228600"/>
                  <a:chOff x="7694280" y="1866600"/>
                  <a:chExt cx="276120" cy="228600"/>
                </a:xfrm>
              </p:grpSpPr>
              <p:sp>
                <p:nvSpPr>
                  <p:cNvPr id="77" name="Oval 40"/>
                  <p:cNvSpPr/>
                  <p:nvPr/>
                </p:nvSpPr>
                <p:spPr>
                  <a:xfrm>
                    <a:off x="7741800" y="1866600"/>
                    <a:ext cx="228600" cy="22860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Text Box 41"/>
                  <p:cNvSpPr/>
                  <p:nvPr/>
                </p:nvSpPr>
                <p:spPr>
                  <a:xfrm>
                    <a:off x="7694280" y="1875960"/>
                    <a:ext cx="228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" name="Group 42"/>
                <p:cNvGrpSpPr/>
                <p:nvPr/>
              </p:nvGrpSpPr>
              <p:grpSpPr>
                <a:xfrm>
                  <a:off x="7456320" y="1462320"/>
                  <a:ext cx="276120" cy="228600"/>
                  <a:chOff x="7456320" y="1462320"/>
                  <a:chExt cx="276120" cy="228600"/>
                </a:xfrm>
              </p:grpSpPr>
              <p:sp>
                <p:nvSpPr>
                  <p:cNvPr id="80" name="Oval 43"/>
                  <p:cNvSpPr/>
                  <p:nvPr/>
                </p:nvSpPr>
                <p:spPr>
                  <a:xfrm>
                    <a:off x="7503840" y="1462320"/>
                    <a:ext cx="228600" cy="22860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44"/>
                  <p:cNvSpPr/>
                  <p:nvPr/>
                </p:nvSpPr>
                <p:spPr>
                  <a:xfrm>
                    <a:off x="7456320" y="1471680"/>
                    <a:ext cx="228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5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" name="Line 45"/>
                <p:cNvSpPr/>
                <p:nvPr/>
              </p:nvSpPr>
              <p:spPr>
                <a:xfrm flipV="1">
                  <a:off x="7723080" y="1263600"/>
                  <a:ext cx="304920" cy="28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46"/>
                <p:cNvSpPr/>
                <p:nvPr/>
              </p:nvSpPr>
              <p:spPr>
                <a:xfrm>
                  <a:off x="8151840" y="1250640"/>
                  <a:ext cx="285480" cy="24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47"/>
                <p:cNvSpPr/>
                <p:nvPr/>
              </p:nvSpPr>
              <p:spPr>
                <a:xfrm flipH="1">
                  <a:off x="7779600" y="1548000"/>
                  <a:ext cx="600120" cy="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48"/>
                <p:cNvSpPr/>
                <p:nvPr/>
              </p:nvSpPr>
              <p:spPr>
                <a:xfrm flipH="1">
                  <a:off x="7922880" y="1298520"/>
                  <a:ext cx="133200" cy="590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49"/>
                <p:cNvSpPr/>
                <p:nvPr/>
              </p:nvSpPr>
              <p:spPr>
                <a:xfrm>
                  <a:off x="8103960" y="1303920"/>
                  <a:ext cx="180720" cy="56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Text Box 50"/>
              <p:cNvSpPr/>
              <p:nvPr/>
            </p:nvSpPr>
            <p:spPr>
              <a:xfrm>
                <a:off x="7799040" y="2241720"/>
                <a:ext cx="6858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Group 51"/>
          <p:cNvGrpSpPr/>
          <p:nvPr/>
        </p:nvGrpSpPr>
        <p:grpSpPr>
          <a:xfrm>
            <a:off x="1258920" y="5373720"/>
            <a:ext cx="1439280" cy="1728720"/>
            <a:chOff x="1258920" y="5373720"/>
            <a:chExt cx="1439280" cy="1728720"/>
          </a:xfrm>
        </p:grpSpPr>
        <p:grpSp>
          <p:nvGrpSpPr>
            <p:cNvPr id="89" name="Group 52"/>
            <p:cNvGrpSpPr/>
            <p:nvPr/>
          </p:nvGrpSpPr>
          <p:grpSpPr>
            <a:xfrm>
              <a:off x="1258920" y="5373720"/>
              <a:ext cx="1439280" cy="1728720"/>
              <a:chOff x="1258920" y="5373720"/>
              <a:chExt cx="1439280" cy="1728720"/>
            </a:xfrm>
          </p:grpSpPr>
          <p:grpSp>
            <p:nvGrpSpPr>
              <p:cNvPr id="90" name="Group 53"/>
              <p:cNvGrpSpPr/>
              <p:nvPr/>
            </p:nvGrpSpPr>
            <p:grpSpPr>
              <a:xfrm>
                <a:off x="1258920" y="5373720"/>
                <a:ext cx="1439280" cy="1308240"/>
                <a:chOff x="1258920" y="5373720"/>
                <a:chExt cx="1439280" cy="1308240"/>
              </a:xfrm>
            </p:grpSpPr>
            <p:grpSp>
              <p:nvGrpSpPr>
                <p:cNvPr id="91" name="Group 54"/>
                <p:cNvGrpSpPr/>
                <p:nvPr/>
              </p:nvGrpSpPr>
              <p:grpSpPr>
                <a:xfrm>
                  <a:off x="1818720" y="5373720"/>
                  <a:ext cx="330840" cy="284760"/>
                  <a:chOff x="1818720" y="5373720"/>
                  <a:chExt cx="330840" cy="284760"/>
                </a:xfrm>
              </p:grpSpPr>
              <p:sp>
                <p:nvSpPr>
                  <p:cNvPr id="92" name="Oval 55"/>
                  <p:cNvSpPr/>
                  <p:nvPr/>
                </p:nvSpPr>
                <p:spPr>
                  <a:xfrm>
                    <a:off x="1875600" y="5373720"/>
                    <a:ext cx="273960" cy="2847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Text Box 56"/>
                  <p:cNvSpPr/>
                  <p:nvPr/>
                </p:nvSpPr>
                <p:spPr>
                  <a:xfrm>
                    <a:off x="1818720" y="5385240"/>
                    <a:ext cx="274320" cy="22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Group 57"/>
                <p:cNvGrpSpPr/>
                <p:nvPr/>
              </p:nvGrpSpPr>
              <p:grpSpPr>
                <a:xfrm>
                  <a:off x="2367360" y="5867640"/>
                  <a:ext cx="330840" cy="284760"/>
                  <a:chOff x="2367360" y="5867640"/>
                  <a:chExt cx="330840" cy="284760"/>
                </a:xfrm>
              </p:grpSpPr>
              <p:sp>
                <p:nvSpPr>
                  <p:cNvPr id="95" name="Oval 58"/>
                  <p:cNvSpPr/>
                  <p:nvPr/>
                </p:nvSpPr>
                <p:spPr>
                  <a:xfrm>
                    <a:off x="2424240" y="5867640"/>
                    <a:ext cx="273960" cy="2847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Text Box 59"/>
                  <p:cNvSpPr/>
                  <p:nvPr/>
                </p:nvSpPr>
                <p:spPr>
                  <a:xfrm>
                    <a:off x="2367360" y="5879160"/>
                    <a:ext cx="274320" cy="22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60"/>
                <p:cNvGrpSpPr/>
                <p:nvPr/>
              </p:nvGrpSpPr>
              <p:grpSpPr>
                <a:xfrm>
                  <a:off x="2138760" y="6397200"/>
                  <a:ext cx="330840" cy="284760"/>
                  <a:chOff x="2138760" y="6397200"/>
                  <a:chExt cx="330840" cy="284760"/>
                </a:xfrm>
              </p:grpSpPr>
              <p:sp>
                <p:nvSpPr>
                  <p:cNvPr id="98" name="Oval 61"/>
                  <p:cNvSpPr/>
                  <p:nvPr/>
                </p:nvSpPr>
                <p:spPr>
                  <a:xfrm>
                    <a:off x="2195640" y="6397200"/>
                    <a:ext cx="273960" cy="2847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Text Box 62"/>
                  <p:cNvSpPr/>
                  <p:nvPr/>
                </p:nvSpPr>
                <p:spPr>
                  <a:xfrm>
                    <a:off x="2138760" y="6408720"/>
                    <a:ext cx="274320" cy="22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63"/>
                <p:cNvGrpSpPr/>
                <p:nvPr/>
              </p:nvGrpSpPr>
              <p:grpSpPr>
                <a:xfrm>
                  <a:off x="1544400" y="6387480"/>
                  <a:ext cx="330840" cy="284760"/>
                  <a:chOff x="1544400" y="6387480"/>
                  <a:chExt cx="330840" cy="284760"/>
                </a:xfrm>
              </p:grpSpPr>
              <p:sp>
                <p:nvSpPr>
                  <p:cNvPr id="101" name="Oval 64"/>
                  <p:cNvSpPr/>
                  <p:nvPr/>
                </p:nvSpPr>
                <p:spPr>
                  <a:xfrm>
                    <a:off x="1601280" y="6387480"/>
                    <a:ext cx="273960" cy="2847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Text Box 65"/>
                  <p:cNvSpPr/>
                  <p:nvPr/>
                </p:nvSpPr>
                <p:spPr>
                  <a:xfrm>
                    <a:off x="1544400" y="6399000"/>
                    <a:ext cx="274320" cy="22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Group 66"/>
                <p:cNvGrpSpPr/>
                <p:nvPr/>
              </p:nvGrpSpPr>
              <p:grpSpPr>
                <a:xfrm>
                  <a:off x="1258920" y="5884200"/>
                  <a:ext cx="330840" cy="284760"/>
                  <a:chOff x="1258920" y="5884200"/>
                  <a:chExt cx="330840" cy="284760"/>
                </a:xfrm>
              </p:grpSpPr>
              <p:sp>
                <p:nvSpPr>
                  <p:cNvPr id="104" name="Oval 67"/>
                  <p:cNvSpPr/>
                  <p:nvPr/>
                </p:nvSpPr>
                <p:spPr>
                  <a:xfrm>
                    <a:off x="1315800" y="5884200"/>
                    <a:ext cx="273960" cy="2847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Text Box 68"/>
                  <p:cNvSpPr/>
                  <p:nvPr/>
                </p:nvSpPr>
                <p:spPr>
                  <a:xfrm>
                    <a:off x="1258920" y="5895720"/>
                    <a:ext cx="274320" cy="22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5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" name="Line 69"/>
                <p:cNvSpPr/>
                <p:nvPr/>
              </p:nvSpPr>
              <p:spPr>
                <a:xfrm flipV="1">
                  <a:off x="1578960" y="5636880"/>
                  <a:ext cx="365760" cy="351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70"/>
                <p:cNvSpPr/>
                <p:nvPr/>
              </p:nvSpPr>
              <p:spPr>
                <a:xfrm>
                  <a:off x="2093400" y="5620680"/>
                  <a:ext cx="34272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71"/>
                <p:cNvSpPr/>
                <p:nvPr/>
              </p:nvSpPr>
              <p:spPr>
                <a:xfrm flipH="1">
                  <a:off x="1647360" y="5991120"/>
                  <a:ext cx="72000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72"/>
                <p:cNvSpPr/>
                <p:nvPr/>
              </p:nvSpPr>
              <p:spPr>
                <a:xfrm flipH="1">
                  <a:off x="1818720" y="5680080"/>
                  <a:ext cx="159840" cy="73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73"/>
                <p:cNvSpPr/>
                <p:nvPr/>
              </p:nvSpPr>
              <p:spPr>
                <a:xfrm>
                  <a:off x="2036160" y="5686920"/>
                  <a:ext cx="217080" cy="70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Text Box 74"/>
              <p:cNvSpPr/>
              <p:nvPr/>
            </p:nvSpPr>
            <p:spPr>
              <a:xfrm>
                <a:off x="1670040" y="6855480"/>
                <a:ext cx="82296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Line 75"/>
            <p:cNvSpPr/>
            <p:nvPr/>
          </p:nvSpPr>
          <p:spPr>
            <a:xfrm flipH="1">
              <a:off x="2410920" y="6176160"/>
              <a:ext cx="136800" cy="24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4560" y="44280"/>
            <a:ext cx="792468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</a:rPr>
              <a:t>三、图的存储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二维数组邻接矩阵存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定义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nt  G[101][101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G[i][j]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的值，表示从点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到点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的边的权值，定义如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Arial"/>
              </a:rPr>
              <a:t>上图中的</a:t>
            </a:r>
            <a:r>
              <a:rPr b="0" lang="zh-CN" sz="17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1700" spc="-1" strike="noStrike">
                <a:solidFill>
                  <a:srgbClr val="ffffff"/>
                </a:solidFill>
                <a:latin typeface="Arial"/>
              </a:rPr>
              <a:t>个图对应的邻接矩阵分别如下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00"/>
                </a:solidFill>
                <a:latin typeface="Arial"/>
              </a:rPr>
              <a:t>　　          </a:t>
            </a:r>
            <a:r>
              <a:rPr b="0" lang="zh-CN" sz="1700" spc="-1" strike="noStrike">
                <a:solidFill>
                  <a:srgbClr val="ffff00"/>
                </a:solidFill>
                <a:latin typeface="Arial"/>
              </a:rPr>
              <a:t>0  1  1  1                     0  1  1                    ∞  5   8   ∞   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0" lang="zh-CN" sz="17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0" lang="zh-CN" sz="17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zh-CN" sz="1700" spc="-1" strike="noStrike">
                <a:solidFill>
                  <a:srgbClr val="ffff00"/>
                </a:solidFill>
                <a:latin typeface="Arial"/>
              </a:rPr>
              <a:t>）</a:t>
            </a:r>
            <a:r>
              <a:rPr b="0" lang="zh-CN" sz="1700" spc="-1" strike="noStrike">
                <a:solidFill>
                  <a:srgbClr val="ffff00"/>
                </a:solidFill>
                <a:latin typeface="Arial"/>
              </a:rPr>
              <a:t>=   1  0  1  1    G</a:t>
            </a:r>
            <a:r>
              <a:rPr b="0" lang="zh-CN" sz="17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0" lang="zh-CN" sz="17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zh-CN" sz="1700" spc="-1" strike="noStrike">
                <a:solidFill>
                  <a:srgbClr val="ffff00"/>
                </a:solidFill>
                <a:latin typeface="Arial"/>
              </a:rPr>
              <a:t>）</a:t>
            </a:r>
            <a:r>
              <a:rPr b="0" lang="zh-CN" sz="1700" spc="-1" strike="noStrike">
                <a:solidFill>
                  <a:srgbClr val="ffff00"/>
                </a:solidFill>
                <a:latin typeface="Arial"/>
              </a:rPr>
              <a:t>=  0  0  1                     5   ∞  2   ∞   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00"/>
                </a:solidFill>
                <a:latin typeface="Arial"/>
              </a:rPr>
              <a:t>　　          </a:t>
            </a:r>
            <a:r>
              <a:rPr b="0" lang="zh-CN" sz="1700" spc="-1" strike="noStrike">
                <a:solidFill>
                  <a:srgbClr val="ffff00"/>
                </a:solidFill>
                <a:latin typeface="Arial"/>
              </a:rPr>
              <a:t>1  1  0  0                     0  1  0    G</a:t>
            </a:r>
            <a:r>
              <a:rPr b="0" lang="zh-CN" sz="17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0" lang="zh-CN" sz="17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zh-CN" sz="1700" spc="-1" strike="noStrike">
                <a:solidFill>
                  <a:srgbClr val="ffff00"/>
                </a:solidFill>
                <a:latin typeface="Arial"/>
              </a:rPr>
              <a:t>）</a:t>
            </a:r>
            <a:r>
              <a:rPr b="0" lang="zh-CN" sz="1700" spc="-1" strike="noStrike">
                <a:solidFill>
                  <a:srgbClr val="ffff00"/>
                </a:solidFill>
                <a:latin typeface="Arial"/>
              </a:rPr>
              <a:t>=  8   2   ∞  10   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00"/>
                </a:solidFill>
                <a:latin typeface="Arial"/>
              </a:rPr>
              <a:t>　　          </a:t>
            </a:r>
            <a:r>
              <a:rPr b="0" lang="zh-CN" sz="1700" spc="-1" strike="noStrike">
                <a:solidFill>
                  <a:srgbClr val="ffff00"/>
                </a:solidFill>
                <a:latin typeface="Arial"/>
              </a:rPr>
              <a:t>1  1  0  0                                                   ∞  ∞  10  ∞  1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00"/>
                </a:solidFill>
                <a:latin typeface="Arial"/>
              </a:rPr>
              <a:t>　　                                                                            </a:t>
            </a:r>
            <a:r>
              <a:rPr b="0" lang="zh-CN" sz="1700" spc="-1" strike="noStrike">
                <a:solidFill>
                  <a:srgbClr val="ffff00"/>
                </a:solidFill>
                <a:latin typeface="Arial"/>
              </a:rPr>
              <a:t>3   6   4   11  ∞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图片1"/>
          <p:cNvPicPr/>
          <p:nvPr/>
        </p:nvPicPr>
        <p:blipFill>
          <a:blip r:embed="rId1"/>
          <a:stretch/>
        </p:blipFill>
        <p:spPr>
          <a:xfrm>
            <a:off x="250920" y="1341360"/>
            <a:ext cx="6553080" cy="100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Object 4"/>
          <p:cNvGraphicFramePr/>
          <p:nvPr/>
        </p:nvGraphicFramePr>
        <p:xfrm>
          <a:off x="179280" y="2565360"/>
          <a:ext cx="4032360" cy="132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565360"/>
                    <a:ext cx="403236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5"/>
          <p:cNvGrpSpPr/>
          <p:nvPr/>
        </p:nvGrpSpPr>
        <p:grpSpPr>
          <a:xfrm>
            <a:off x="1042920" y="4292640"/>
            <a:ext cx="1008000" cy="1225440"/>
            <a:chOff x="1042920" y="4292640"/>
            <a:chExt cx="1008000" cy="1225440"/>
          </a:xfrm>
        </p:grpSpPr>
        <p:sp>
          <p:nvSpPr>
            <p:cNvPr id="118" name="Line 6"/>
            <p:cNvSpPr/>
            <p:nvPr/>
          </p:nvSpPr>
          <p:spPr>
            <a:xfrm>
              <a:off x="1042920" y="4292640"/>
              <a:ext cx="0" cy="122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2050920" y="4292640"/>
              <a:ext cx="0" cy="122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1042920" y="5518080"/>
              <a:ext cx="12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1042920" y="4292640"/>
              <a:ext cx="12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1924920" y="4292640"/>
              <a:ext cx="12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1924920" y="5518080"/>
              <a:ext cx="12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2"/>
          <p:cNvGrpSpPr/>
          <p:nvPr/>
        </p:nvGrpSpPr>
        <p:grpSpPr>
          <a:xfrm>
            <a:off x="3203640" y="4292640"/>
            <a:ext cx="720720" cy="887400"/>
            <a:chOff x="3203640" y="4292640"/>
            <a:chExt cx="720720" cy="887400"/>
          </a:xfrm>
        </p:grpSpPr>
        <p:sp>
          <p:nvSpPr>
            <p:cNvPr id="125" name="Line 13"/>
            <p:cNvSpPr/>
            <p:nvPr/>
          </p:nvSpPr>
          <p:spPr>
            <a:xfrm>
              <a:off x="3203640" y="4292640"/>
              <a:ext cx="0" cy="88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4"/>
            <p:cNvSpPr/>
            <p:nvPr/>
          </p:nvSpPr>
          <p:spPr>
            <a:xfrm>
              <a:off x="3924360" y="4292640"/>
              <a:ext cx="0" cy="88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3203640" y="5180040"/>
              <a:ext cx="9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3203640" y="4292640"/>
              <a:ext cx="9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3834360" y="4292640"/>
              <a:ext cx="9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3834360" y="5180040"/>
              <a:ext cx="9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9"/>
          <p:cNvGrpSpPr/>
          <p:nvPr/>
        </p:nvGrpSpPr>
        <p:grpSpPr>
          <a:xfrm>
            <a:off x="5076720" y="4294080"/>
            <a:ext cx="1657440" cy="1584360"/>
            <a:chOff x="5076720" y="4294080"/>
            <a:chExt cx="1657440" cy="1584360"/>
          </a:xfrm>
        </p:grpSpPr>
        <p:sp>
          <p:nvSpPr>
            <p:cNvPr id="132" name="Line 20"/>
            <p:cNvSpPr/>
            <p:nvPr/>
          </p:nvSpPr>
          <p:spPr>
            <a:xfrm>
              <a:off x="5076720" y="4294080"/>
              <a:ext cx="0" cy="158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6734160" y="4294080"/>
              <a:ext cx="0" cy="158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2"/>
            <p:cNvSpPr/>
            <p:nvPr/>
          </p:nvSpPr>
          <p:spPr>
            <a:xfrm>
              <a:off x="5076720" y="5878440"/>
              <a:ext cx="20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076720" y="4294080"/>
              <a:ext cx="20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6526800" y="4294080"/>
              <a:ext cx="20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6526800" y="5878440"/>
              <a:ext cx="20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四、深度优先与广度优先遍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　　     从图中某一顶点出发系统地访问图中所有顶点，使每个顶点恰好被访问一次，这种运算操作被称为图的遍历。为了避免重复访问某个顶点，可以设一个标志数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sited[i]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未访问时值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lse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访问一次后就改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　　      图的遍历分为深度优先遍历和广度优先遍历两种方法，两者的时间效率都是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(n*n)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黑体"/>
              </a:rPr>
              <a:t>1.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  <a:ea typeface="黑体"/>
              </a:rPr>
              <a:t>深度优先遍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　　    深度优先遍历与深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FS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相似，从一个点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出发，将这个点标为已访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sited[i]:=true;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然后再访问所有与之相连，且未被访问过的点。当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的所有邻接点都被访问过后，再退回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的上一个点（假设是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），再从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的另一个未被访问的邻接点出发，继续遍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　　    例如对右边的这个无向图深度优先遍历，假定先从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出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　　    程序以如下顺序遍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　　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→2→5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然后退回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退回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　　    从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开始再访问未被访问过的点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没有未访问的邻接点，退回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　　    再从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开始访问未被访问过的点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再退回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　　    起点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的所有邻接点都已访问，遍历结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7596360" y="3860640"/>
            <a:ext cx="1199880" cy="1386000"/>
            <a:chOff x="7596360" y="3860640"/>
            <a:chExt cx="1199880" cy="1386000"/>
          </a:xfrm>
        </p:grpSpPr>
        <p:grpSp>
          <p:nvGrpSpPr>
            <p:cNvPr id="140" name="Group 5"/>
            <p:cNvGrpSpPr/>
            <p:nvPr/>
          </p:nvGrpSpPr>
          <p:grpSpPr>
            <a:xfrm>
              <a:off x="7596360" y="3860640"/>
              <a:ext cx="1199880" cy="1049040"/>
              <a:chOff x="7596360" y="3860640"/>
              <a:chExt cx="1199880" cy="1049040"/>
            </a:xfrm>
          </p:grpSpPr>
          <p:grpSp>
            <p:nvGrpSpPr>
              <p:cNvPr id="141" name="Group 6"/>
              <p:cNvGrpSpPr/>
              <p:nvPr/>
            </p:nvGrpSpPr>
            <p:grpSpPr>
              <a:xfrm>
                <a:off x="8062920" y="3860640"/>
                <a:ext cx="276120" cy="228240"/>
                <a:chOff x="8062920" y="3860640"/>
                <a:chExt cx="276120" cy="228240"/>
              </a:xfrm>
            </p:grpSpPr>
            <p:sp>
              <p:nvSpPr>
                <p:cNvPr id="142" name="Oval 7"/>
                <p:cNvSpPr/>
                <p:nvPr/>
              </p:nvSpPr>
              <p:spPr>
                <a:xfrm>
                  <a:off x="8110440" y="3860640"/>
                  <a:ext cx="228600" cy="22824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Text Box 8"/>
                <p:cNvSpPr/>
                <p:nvPr/>
              </p:nvSpPr>
              <p:spPr>
                <a:xfrm>
                  <a:off x="8062920" y="3870000"/>
                  <a:ext cx="228600" cy="18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1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9"/>
              <p:cNvGrpSpPr/>
              <p:nvPr/>
            </p:nvGrpSpPr>
            <p:grpSpPr>
              <a:xfrm>
                <a:off x="8520120" y="4256640"/>
                <a:ext cx="276120" cy="228240"/>
                <a:chOff x="8520120" y="4256640"/>
                <a:chExt cx="276120" cy="228240"/>
              </a:xfrm>
            </p:grpSpPr>
            <p:sp>
              <p:nvSpPr>
                <p:cNvPr id="145" name="Oval 10"/>
                <p:cNvSpPr/>
                <p:nvPr/>
              </p:nvSpPr>
              <p:spPr>
                <a:xfrm>
                  <a:off x="8567640" y="4256640"/>
                  <a:ext cx="228600" cy="22824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Text Box 11"/>
                <p:cNvSpPr/>
                <p:nvPr/>
              </p:nvSpPr>
              <p:spPr>
                <a:xfrm>
                  <a:off x="8520120" y="4266000"/>
                  <a:ext cx="228600" cy="18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2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12"/>
              <p:cNvGrpSpPr/>
              <p:nvPr/>
            </p:nvGrpSpPr>
            <p:grpSpPr>
              <a:xfrm>
                <a:off x="8329680" y="4681440"/>
                <a:ext cx="276120" cy="228240"/>
                <a:chOff x="8329680" y="4681440"/>
                <a:chExt cx="276120" cy="228240"/>
              </a:xfrm>
            </p:grpSpPr>
            <p:sp>
              <p:nvSpPr>
                <p:cNvPr id="148" name="Oval 13"/>
                <p:cNvSpPr/>
                <p:nvPr/>
              </p:nvSpPr>
              <p:spPr>
                <a:xfrm>
                  <a:off x="8377200" y="4681440"/>
                  <a:ext cx="228600" cy="22824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 Box 14"/>
                <p:cNvSpPr/>
                <p:nvPr/>
              </p:nvSpPr>
              <p:spPr>
                <a:xfrm>
                  <a:off x="8329680" y="4690800"/>
                  <a:ext cx="228600" cy="18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3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15"/>
              <p:cNvGrpSpPr/>
              <p:nvPr/>
            </p:nvGrpSpPr>
            <p:grpSpPr>
              <a:xfrm>
                <a:off x="7834320" y="4673520"/>
                <a:ext cx="276120" cy="228240"/>
                <a:chOff x="7834320" y="4673520"/>
                <a:chExt cx="276120" cy="228240"/>
              </a:xfrm>
            </p:grpSpPr>
            <p:sp>
              <p:nvSpPr>
                <p:cNvPr id="151" name="Oval 16"/>
                <p:cNvSpPr/>
                <p:nvPr/>
              </p:nvSpPr>
              <p:spPr>
                <a:xfrm>
                  <a:off x="7881840" y="4673520"/>
                  <a:ext cx="228600" cy="22824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Text Box 17"/>
                <p:cNvSpPr/>
                <p:nvPr/>
              </p:nvSpPr>
              <p:spPr>
                <a:xfrm>
                  <a:off x="7834320" y="4682880"/>
                  <a:ext cx="228600" cy="18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4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18"/>
              <p:cNvGrpSpPr/>
              <p:nvPr/>
            </p:nvGrpSpPr>
            <p:grpSpPr>
              <a:xfrm>
                <a:off x="7596360" y="4269960"/>
                <a:ext cx="276120" cy="228240"/>
                <a:chOff x="7596360" y="4269960"/>
                <a:chExt cx="276120" cy="228240"/>
              </a:xfrm>
            </p:grpSpPr>
            <p:sp>
              <p:nvSpPr>
                <p:cNvPr id="154" name="Oval 19"/>
                <p:cNvSpPr/>
                <p:nvPr/>
              </p:nvSpPr>
              <p:spPr>
                <a:xfrm>
                  <a:off x="7643880" y="4269960"/>
                  <a:ext cx="228600" cy="22824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Text Box 20"/>
                <p:cNvSpPr/>
                <p:nvPr/>
              </p:nvSpPr>
              <p:spPr>
                <a:xfrm>
                  <a:off x="7596360" y="4279320"/>
                  <a:ext cx="228600" cy="18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5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Line 21"/>
              <p:cNvSpPr/>
              <p:nvPr/>
            </p:nvSpPr>
            <p:spPr>
              <a:xfrm flipV="1">
                <a:off x="7862760" y="4071600"/>
                <a:ext cx="304560" cy="28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22"/>
              <p:cNvSpPr/>
              <p:nvPr/>
            </p:nvSpPr>
            <p:spPr>
              <a:xfrm>
                <a:off x="8291520" y="4058640"/>
                <a:ext cx="28548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23"/>
              <p:cNvSpPr/>
              <p:nvPr/>
            </p:nvSpPr>
            <p:spPr>
              <a:xfrm flipH="1">
                <a:off x="7920000" y="4355640"/>
                <a:ext cx="59976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24"/>
              <p:cNvSpPr/>
              <p:nvPr/>
            </p:nvSpPr>
            <p:spPr>
              <a:xfrm flipH="1">
                <a:off x="8062920" y="4106160"/>
                <a:ext cx="133200" cy="59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25"/>
              <p:cNvSpPr/>
              <p:nvPr/>
            </p:nvSpPr>
            <p:spPr>
              <a:xfrm>
                <a:off x="8244000" y="4111920"/>
                <a:ext cx="180720" cy="56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Text Box 26"/>
            <p:cNvSpPr/>
            <p:nvPr/>
          </p:nvSpPr>
          <p:spPr>
            <a:xfrm>
              <a:off x="7939080" y="5048640"/>
              <a:ext cx="68580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6360" y="43920"/>
            <a:ext cx="9001440" cy="66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广度优先遍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     广度优先遍历并不常用，从编程复杂度的角度考虑，通常采用的是深度优先遍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     广度优先遍历和广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FS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相似，因此使用广度优先遍历一张图并不需要掌握什么新的知识，在原有的广度优先搜索的基础上，做一点小小的修改，就成了广度优先遍历算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五、一笔画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     如果一个图存在一笔画，则一笔画的路径叫做欧拉路，如果最后又回到起点，那这个路径叫做欧拉回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     我们定义奇点是指跟这个点相连的边数目有奇数个的点。对于能够一笔画的图，我们有以下两个定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　  定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：存在欧拉路的条件：图是连通的，有且只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个奇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　  定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：存在欧拉回路的条件：图是连通的，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个奇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      两个定理的正确性是显而易见的，既然每条边都要经过一次，那么对于欧拉路，除了起点和终点外，每个点如果进入了一次，显然一定要出去一次，显然是偶点。对于欧拉回路，每个点进入和出去次数一定都是相等的，显然没有奇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     求欧拉路的算法很简单，使用深度优先遍历即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     根据一笔画的两个定理，如果寻找欧拉回路，对任意一个点执行深度优先遍历；找欧拉路，则对一个奇点执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FS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时间复杂度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(m+n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为边数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是点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2"/>
          <p:cNvSpPr/>
          <p:nvPr/>
        </p:nvSpPr>
        <p:spPr>
          <a:xfrm>
            <a:off x="3120840" y="2852640"/>
            <a:ext cx="290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课堂练习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1"/>
          <p:cNvSpPr/>
          <p:nvPr/>
        </p:nvSpPr>
        <p:spPr>
          <a:xfrm>
            <a:off x="539640" y="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P200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提高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无向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=(V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其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={a,b,c,d,e,f} E={(a,b),(a,e),(a,c),(b,e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,f),(f,d),(e,d)}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对该图进行深度优先遍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得到的顶点序列正确的是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,b,e,c,d,f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,c,f,e,b,d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,e,b,c,f,d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,b,e,d,f,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分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依题中描述将无向图画出如图所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39" descr="341"/>
          <p:cNvPicPr/>
          <p:nvPr/>
        </p:nvPicPr>
        <p:blipFill>
          <a:blip r:embed="rId1"/>
          <a:stretch/>
        </p:blipFill>
        <p:spPr>
          <a:xfrm>
            <a:off x="2987640" y="1851120"/>
            <a:ext cx="2521080" cy="1544400"/>
          </a:xfrm>
          <a:prstGeom prst="rect">
            <a:avLst/>
          </a:prstGeom>
          <a:ln w="0">
            <a:noFill/>
          </a:ln>
        </p:spPr>
      </p:pic>
      <p:sp>
        <p:nvSpPr>
          <p:cNvPr id="166" name="矩形 2"/>
          <p:cNvSpPr/>
          <p:nvPr/>
        </p:nvSpPr>
        <p:spPr>
          <a:xfrm>
            <a:off x="919080" y="3429000"/>
            <a:ext cx="67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按照深度优先搜索的规则进行搜索，得到序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 a,b,e,d,f,c }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"/>
          <p:cNvSpPr/>
          <p:nvPr/>
        </p:nvSpPr>
        <p:spPr>
          <a:xfrm>
            <a:off x="539640" y="45385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P200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提高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在一个有向图中，所有顶点的入度之和等于所有顶点的出度之和的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2          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     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           D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分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在有向图中，所有顶点的入度之和等于所有顶点的出度之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"/>
          <p:cNvSpPr/>
          <p:nvPr/>
        </p:nvSpPr>
        <p:spPr>
          <a:xfrm>
            <a:off x="611280" y="1260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P200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提高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假设我们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(a1,a2,...,a5)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表示无向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个顶点的度数，下面给出的哪（些）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值合理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5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}     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4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}     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5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}     E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分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每条边被两个顶点计算度数，因此度数和必为偶数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D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度数和为奇数，因此正确答案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"/>
          <p:cNvSpPr/>
          <p:nvPr/>
        </p:nvSpPr>
        <p:spPr>
          <a:xfrm>
            <a:off x="611280" y="2708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P2004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普及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在下图中，从顶点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出发存在一条路径可以遍历图中的每条边一次，而且仅遍历一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" descr="未命名3"/>
          <p:cNvPicPr/>
          <p:nvPr/>
        </p:nvPicPr>
        <p:blipFill>
          <a:blip r:embed="rId1"/>
          <a:stretch/>
        </p:blipFill>
        <p:spPr>
          <a:xfrm>
            <a:off x="3284640" y="3500280"/>
            <a:ext cx="2503440" cy="1800360"/>
          </a:xfrm>
          <a:prstGeom prst="rect">
            <a:avLst/>
          </a:prstGeom>
          <a:ln w="0">
            <a:noFill/>
          </a:ln>
        </p:spPr>
      </p:pic>
      <p:sp>
        <p:nvSpPr>
          <p:cNvPr id="171" name="矩形 3"/>
          <p:cNvSpPr/>
          <p:nvPr/>
        </p:nvSpPr>
        <p:spPr>
          <a:xfrm>
            <a:off x="611280" y="565452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 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. D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. E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分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欧拉图问题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是奇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cp:keywords/>
  <dc:language>en-US</dc:language>
  <cp:lastModifiedBy>AutoBVT</cp:lastModifiedBy>
  <dcterms:modified xsi:type="dcterms:W3CDTF">2018-09-06T08:50:55Z</dcterms:modified>
  <cp:revision>16</cp:revision>
  <dc:subject/>
  <dc:title>第四章  图论算法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