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5280" y="3716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232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77720" y="1268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160" y="1268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5280" y="3716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77720" y="3716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160" y="3716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87280" y="259920"/>
            <a:ext cx="61563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1232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3716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3716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1232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720" y="1268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0160" y="1268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3716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720" y="3716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0160" y="3716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87280" y="259920"/>
            <a:ext cx="61563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1232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716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716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1232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7720" y="1268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60160" y="1268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716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7720" y="3716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60160" y="371628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987280" y="259920"/>
            <a:ext cx="61563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9528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2320" y="3716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2320" y="126828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716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f2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3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4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5"/>
          <p:cNvSpPr/>
          <p:nvPr/>
        </p:nvSpPr>
        <p:spPr>
          <a:xfrm>
            <a:off x="468360" y="357336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f2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0" y="649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18415"/>
                </a:solidFill>
                <a:latin typeface="Verdana"/>
                <a:ea typeface="DotumChe"/>
              </a:rPr>
              <a:t>HTTP://WWW.FEP.COM.CN</a:t>
            </a:r>
            <a:r>
              <a:rPr b="0" lang="en-US" sz="1400" spc="-1" strike="noStrike">
                <a:solidFill>
                  <a:srgbClr val="918415"/>
                </a:solidFill>
                <a:latin typeface="Arial"/>
              </a:rPr>
              <a:t>            </a:t>
            </a:r>
            <a:r>
              <a:rPr b="0" lang="zh-CN" sz="1400" spc="-1" strike="noStrike">
                <a:solidFill>
                  <a:srgbClr val="918415"/>
                </a:solidFill>
                <a:latin typeface="Arial"/>
              </a:rPr>
              <a:t>                                                  </a:t>
            </a:r>
            <a:r>
              <a:rPr b="0" lang="zh-CN" sz="1400" spc="-1" strike="noStrike">
                <a:solidFill>
                  <a:srgbClr val="918415"/>
                </a:solidFill>
                <a:latin typeface="Arial"/>
              </a:rPr>
              <a:t>　           　　              　　           </a:t>
            </a:r>
            <a:r>
              <a:rPr b="0" lang="zh-CN" sz="1400" spc="-1" strike="noStrike">
                <a:solidFill>
                  <a:srgbClr val="918415"/>
                </a:solidFill>
                <a:latin typeface="Arial"/>
                <a:ea typeface="幼圆"/>
              </a:rPr>
              <a:t>福建教育出版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2771640" y="836640"/>
            <a:ext cx="6372360" cy="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未标题-4副本"/>
          <p:cNvPicPr/>
          <p:nvPr/>
        </p:nvPicPr>
        <p:blipFill>
          <a:blip r:embed="rId3"/>
          <a:stretch/>
        </p:blipFill>
        <p:spPr>
          <a:xfrm>
            <a:off x="2268360" y="0"/>
            <a:ext cx="495360" cy="113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f2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4"/>
          <p:cNvSpPr/>
          <p:nvPr/>
        </p:nvSpPr>
        <p:spPr>
          <a:xfrm>
            <a:off x="1440" y="1930320"/>
            <a:ext cx="9144000" cy="2484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0" y="4524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0" y="1779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60360" y="6202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2" descr="water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360" y="-233280"/>
            <a:ext cx="1906560" cy="157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2" descr="water"/>
          <p:cNvPicPr/>
          <p:nvPr/>
        </p:nvPicPr>
        <p:blipFill>
          <a:blip r:embed="rId2"/>
          <a:srcRect l="22402" t="16371" r="0" b="27499"/>
          <a:stretch/>
        </p:blipFill>
        <p:spPr>
          <a:xfrm>
            <a:off x="598320" y="4524480"/>
            <a:ext cx="952560" cy="7858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0"/>
          <p:cNvSpPr/>
          <p:nvPr/>
        </p:nvSpPr>
        <p:spPr>
          <a:xfrm>
            <a:off x="3419640" y="28843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求解 入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0" descr="C:\Users\lx\Desktop\2.jpg"/>
          <p:cNvPicPr/>
          <p:nvPr/>
        </p:nvPicPr>
        <p:blipFill>
          <a:blip r:embed="rId3"/>
          <a:srcRect l="0" t="0" r="0" b="4840"/>
          <a:stretch/>
        </p:blipFill>
        <p:spPr>
          <a:xfrm>
            <a:off x="131760" y="5207040"/>
            <a:ext cx="22147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2f2f2f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0" y="6321600"/>
            <a:ext cx="9144000" cy="563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96840" y="6516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求解 入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 flipV="1">
            <a:off x="0" y="563040"/>
            <a:ext cx="9144000" cy="36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"/>
          <p:cNvSpPr/>
          <p:nvPr/>
        </p:nvSpPr>
        <p:spPr>
          <a:xfrm>
            <a:off x="763560" y="990720"/>
            <a:ext cx="761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IP19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某班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学生，每位学生发一张调查卡，上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, b, 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本书的书名，将读过的书打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结果统计数字如下：只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；只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；只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；全部读过的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；读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本书的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；读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本书的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；读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本书的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腾祥倩影简"/>
              </a:rPr>
              <a:t>读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腾祥倩影简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腾祥倩影简"/>
              </a:rPr>
              <a:t>的人数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宋体"/>
                <a:ea typeface="腾祥倩影简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宋体"/>
                <a:ea typeface="腾祥倩影简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腾祥倩影简"/>
              </a:rPr>
              <a:t>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腾祥倩影简"/>
              </a:rPr>
              <a:t>一本书也没读过的人数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宋体"/>
                <a:ea typeface="腾祥倩影简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宋体"/>
                <a:ea typeface="腾祥倩影简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宋体"/>
                <a:ea typeface="腾祥倩影简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腾祥倩影简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2916360" y="2708280"/>
            <a:ext cx="3365280" cy="2536920"/>
            <a:chOff x="2916360" y="2708280"/>
            <a:chExt cx="3365280" cy="2536920"/>
          </a:xfrm>
        </p:grpSpPr>
        <p:graphicFrame>
          <p:nvGraphicFramePr>
            <p:cNvPr id="136" name="Object 1"/>
            <p:cNvGraphicFramePr/>
            <p:nvPr/>
          </p:nvGraphicFramePr>
          <p:xfrm>
            <a:off x="2916360" y="2708280"/>
            <a:ext cx="3365280" cy="253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Object 1" descr="image7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6360" y="2708280"/>
                      <a:ext cx="3365280" cy="253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文本框 6"/>
            <p:cNvSpPr/>
            <p:nvPr/>
          </p:nvSpPr>
          <p:spPr>
            <a:xfrm>
              <a:off x="3830760" y="4006800"/>
              <a:ext cx="29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1"/>
          <p:cNvSpPr/>
          <p:nvPr/>
        </p:nvSpPr>
        <p:spPr>
          <a:xfrm>
            <a:off x="3351600" y="2340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2289600" y="20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0" y="6321600"/>
            <a:ext cx="9144000" cy="563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96840" y="6516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求解 入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/>
          <p:cNvSpPr/>
          <p:nvPr/>
        </p:nvSpPr>
        <p:spPr>
          <a:xfrm flipV="1">
            <a:off x="0" y="563040"/>
            <a:ext cx="9144000" cy="36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939960" y="746280"/>
            <a:ext cx="726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IP19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comachn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定理，任何一个正整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立方一定可以表示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连续的奇数的和。例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3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7 + 9 +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13 + 15 + 17 +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这里，若将每一个式中的最小奇数称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那么当给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之后，请写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关系表达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1387440" y="3502080"/>
            <a:ext cx="63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通过观察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平方正好是右侧加法式子的中位数，这个值正好和最小奇数差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-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"/>
          <p:cNvSpPr/>
          <p:nvPr/>
        </p:nvSpPr>
        <p:spPr>
          <a:xfrm>
            <a:off x="2725560" y="4503600"/>
            <a:ext cx="36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=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0" y="6321600"/>
            <a:ext cx="9144000" cy="563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7"/>
          <p:cNvSpPr/>
          <p:nvPr/>
        </p:nvSpPr>
        <p:spPr>
          <a:xfrm>
            <a:off x="96840" y="6516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求解 入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 flipV="1">
            <a:off x="0" y="563040"/>
            <a:ext cx="9144000" cy="36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99"/>
          <p:cNvSpPr/>
          <p:nvPr/>
        </p:nvSpPr>
        <p:spPr>
          <a:xfrm>
            <a:off x="1203480" y="733320"/>
            <a:ext cx="67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IP2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已知，按中序遍历二叉树的结果为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：有多少种不同形态的二叉树可以得到这一遍历结果，并画出这些二叉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6"/>
          <p:cNvSpPr/>
          <p:nvPr/>
        </p:nvSpPr>
        <p:spPr>
          <a:xfrm>
            <a:off x="1224000" y="2063880"/>
            <a:ext cx="66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共五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图片 5"/>
          <p:cNvGraphicFramePr/>
          <p:nvPr/>
        </p:nvGraphicFramePr>
        <p:xfrm>
          <a:off x="285840" y="2900520"/>
          <a:ext cx="1792080" cy="21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图片 5" descr="image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900520"/>
                    <a:ext cx="1792080" cy="21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图片 8"/>
          <p:cNvGraphicFramePr/>
          <p:nvPr/>
        </p:nvGraphicFramePr>
        <p:xfrm>
          <a:off x="2254320" y="2935440"/>
          <a:ext cx="1320840" cy="21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图片 8" descr="image9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2935440"/>
                    <a:ext cx="1320840" cy="21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图片 10"/>
          <p:cNvGraphicFramePr/>
          <p:nvPr/>
        </p:nvGraphicFramePr>
        <p:xfrm>
          <a:off x="3575160" y="3203640"/>
          <a:ext cx="2255760" cy="16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图片 10" descr="image10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5160" y="3203640"/>
                    <a:ext cx="22557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图片 5"/>
          <p:cNvGraphicFramePr/>
          <p:nvPr/>
        </p:nvGraphicFramePr>
        <p:xfrm>
          <a:off x="5722920" y="2749680"/>
          <a:ext cx="3421080" cy="25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图片 5" descr="image11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2920" y="2749680"/>
                    <a:ext cx="34210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0" y="6321600"/>
            <a:ext cx="9144000" cy="563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7"/>
          <p:cNvSpPr/>
          <p:nvPr/>
        </p:nvSpPr>
        <p:spPr>
          <a:xfrm>
            <a:off x="96840" y="6516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求解 入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 flipV="1">
            <a:off x="0" y="563040"/>
            <a:ext cx="9144000" cy="36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8"/>
          <p:cNvSpPr/>
          <p:nvPr/>
        </p:nvSpPr>
        <p:spPr>
          <a:xfrm>
            <a:off x="684360" y="35002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第一个到达出口的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车厢，所以可以肯定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车厢在栈底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车厢在栈顶，之后所有的可能序列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种，分别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14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15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41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45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4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21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25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52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4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73280" y="82404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OIP20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下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一个无穷大的的栈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S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栈的右边排列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1,2,3,4,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共五个车厢。其中每个车厢可以向左行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也可以进入栈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让后面的车厢通过。现已知第一个到达出口的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车厢，请写出所有可能的到达出口的车厢排列总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必给出每种排列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276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0" y="6321600"/>
            <a:ext cx="9144000" cy="563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7"/>
          <p:cNvSpPr/>
          <p:nvPr/>
        </p:nvSpPr>
        <p:spPr>
          <a:xfrm>
            <a:off x="96840" y="6516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求解 入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/>
          <p:cNvSpPr/>
          <p:nvPr/>
        </p:nvSpPr>
        <p:spPr>
          <a:xfrm flipV="1">
            <a:off x="0" y="563040"/>
            <a:ext cx="9144000" cy="36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99"/>
          <p:cNvSpPr/>
          <p:nvPr/>
        </p:nvSpPr>
        <p:spPr>
          <a:xfrm>
            <a:off x="380880" y="8668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IP20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红球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黄球排成一行。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N=2,M=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得到以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种排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红红黄黄黄 红黄红黄黄 红黄黄红黄 黄红红黄黄 黄红黄红黄 黄黄黄红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=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=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有多少种不同排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"/>
          <p:cNvSpPr/>
          <p:nvPr/>
        </p:nvSpPr>
        <p:spPr>
          <a:xfrm>
            <a:off x="539640" y="2987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个可重复排列的问题，求解方法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+3)! / 4! / 3! =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0" y="6321600"/>
            <a:ext cx="9144000" cy="563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7"/>
          <p:cNvSpPr/>
          <p:nvPr/>
        </p:nvSpPr>
        <p:spPr>
          <a:xfrm>
            <a:off x="96840" y="6516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求解 入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/>
          <p:cNvSpPr/>
          <p:nvPr/>
        </p:nvSpPr>
        <p:spPr>
          <a:xfrm flipV="1">
            <a:off x="0" y="563040"/>
            <a:ext cx="9144000" cy="36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99"/>
          <p:cNvSpPr/>
          <p:nvPr/>
        </p:nvSpPr>
        <p:spPr>
          <a:xfrm>
            <a:off x="441360" y="1122480"/>
            <a:ext cx="82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IP2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儿童到游乐场去玩。他们可以骑旋转木马，坐滑行铁道，乘宇宙飞船。已知其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这三种东西都玩过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至少玩过其中的两种。若每样乘坐一次的费用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，游乐场总共收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可知有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儿童没有玩过其中任何一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684360" y="2637000"/>
            <a:ext cx="7621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合的交并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种东西都玩过的共用去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*5*20=300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玩过两种东西共用去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*5*(55-20)=350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那么：只玩过一种东西的人数为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700-300-350)/5=10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以：什么也没有玩的人数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5-55-10=10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6150240" y="162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0" y="6321600"/>
            <a:ext cx="9144000" cy="563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7"/>
          <p:cNvSpPr/>
          <p:nvPr/>
        </p:nvSpPr>
        <p:spPr>
          <a:xfrm>
            <a:off x="96840" y="6516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求解 入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 flipV="1">
            <a:off x="0" y="563040"/>
            <a:ext cx="9144000" cy="36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99"/>
          <p:cNvSpPr/>
          <p:nvPr/>
        </p:nvSpPr>
        <p:spPr>
          <a:xfrm>
            <a:off x="395280" y="83664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IP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普及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将数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32, 74, 25, 53, 28, 43, 86, 47}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的元素按从小到大的顺序排列，每次可以交换任意两个元素，最少需要交换次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"/>
          <p:cNvSpPr/>
          <p:nvPr/>
        </p:nvSpPr>
        <p:spPr>
          <a:xfrm>
            <a:off x="2960640" y="1587600"/>
            <a:ext cx="32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| 74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53, 28, 43, 86, 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2960640" y="218592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| 32, 53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7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43, 86, 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5"/>
          <p:cNvSpPr/>
          <p:nvPr/>
        </p:nvSpPr>
        <p:spPr>
          <a:xfrm>
            <a:off x="2960640" y="277020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, 28, 32, | 53, 74, 43, 86, 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6"/>
          <p:cNvSpPr/>
          <p:nvPr/>
        </p:nvSpPr>
        <p:spPr>
          <a:xfrm>
            <a:off x="2960640" y="3360600"/>
            <a:ext cx="32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, 28, 32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| 74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86, 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8"/>
          <p:cNvSpPr/>
          <p:nvPr/>
        </p:nvSpPr>
        <p:spPr>
          <a:xfrm>
            <a:off x="2960640" y="394668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, 28, 32, 43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| 53, 86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9"/>
          <p:cNvSpPr/>
          <p:nvPr/>
        </p:nvSpPr>
        <p:spPr>
          <a:xfrm>
            <a:off x="2960640" y="45212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, 28, 32, 43, 47, 53, | 86,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0"/>
          <p:cNvSpPr/>
          <p:nvPr/>
        </p:nvSpPr>
        <p:spPr>
          <a:xfrm>
            <a:off x="2960640" y="5083200"/>
            <a:ext cx="32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, 28, 32, 43, 47, 53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7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1"/>
          <p:cNvSpPr/>
          <p:nvPr/>
        </p:nvSpPr>
        <p:spPr>
          <a:xfrm>
            <a:off x="2960640" y="555948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, 28, 32, 43, 47, 53, 74, 86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4"/>
          <p:cNvSpPr/>
          <p:nvPr/>
        </p:nvSpPr>
        <p:spPr>
          <a:xfrm>
            <a:off x="1440" y="1930320"/>
            <a:ext cx="9144000" cy="2484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"/>
          <p:cNvSpPr/>
          <p:nvPr/>
        </p:nvSpPr>
        <p:spPr>
          <a:xfrm>
            <a:off x="0" y="4524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0" y="1779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6"/>
          <p:cNvSpPr/>
          <p:nvPr/>
        </p:nvSpPr>
        <p:spPr>
          <a:xfrm>
            <a:off x="360360" y="6202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2" descr="water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360" y="-233280"/>
            <a:ext cx="1906560" cy="157320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 3" descr=""/>
          <p:cNvPicPr/>
          <p:nvPr/>
        </p:nvPicPr>
        <p:blipFill>
          <a:blip r:embed="rId2"/>
          <a:stretch/>
        </p:blipFill>
        <p:spPr>
          <a:xfrm>
            <a:off x="2255760" y="2036880"/>
            <a:ext cx="2419560" cy="24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2" descr="water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349200" y="4883040"/>
            <a:ext cx="1906560" cy="1573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Users\user\Desktop\讲师png.png"/>
          <p:cNvPicPr/>
          <p:nvPr/>
        </p:nvPicPr>
        <p:blipFill>
          <a:blip r:embed="rId4"/>
          <a:stretch/>
        </p:blipFill>
        <p:spPr>
          <a:xfrm>
            <a:off x="5865840" y="1162080"/>
            <a:ext cx="323532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05:40:08Z</dcterms:created>
  <dc:creator>微软用户</dc:creator>
  <dc:description/>
  <dc:language>en-US</dc:language>
  <cp:lastModifiedBy>Administrator</cp:lastModifiedBy>
  <dcterms:modified xsi:type="dcterms:W3CDTF">2019-10-04T04:23:48Z</dcterms:modified>
  <cp:revision>329</cp:revision>
  <dc:subject/>
  <dc:title>幻灯片 1</dc:title>
</cp:coreProperties>
</file>