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23.png" ContentType="image/png"/>
  <Override PartName="/ppt/media/image6.png" ContentType="image/pn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685800" y="685440"/>
            <a:ext cx="54864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0F72-3EF8-49B5-9FFC-6512572FA34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C43C8-81BD-4BB9-9769-53D65AFE5AF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8F60A-C722-4CAC-8DA0-44760C42AE2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952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22480"/>
            <a:ext cx="8229600" cy="18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202920"/>
            <a:ext cx="8229600" cy="18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952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22480"/>
            <a:ext cx="4015800" cy="18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22480"/>
            <a:ext cx="4015800" cy="18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202920"/>
            <a:ext cx="4015800" cy="18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202920"/>
            <a:ext cx="4015800" cy="18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952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22480"/>
            <a:ext cx="2649600" cy="18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122480"/>
            <a:ext cx="2649600" cy="18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122480"/>
            <a:ext cx="2649600" cy="18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202920"/>
            <a:ext cx="2649600" cy="18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202920"/>
            <a:ext cx="2649600" cy="18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202920"/>
            <a:ext cx="2649600" cy="18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952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12248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952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2248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952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22480"/>
            <a:ext cx="4015800" cy="39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122480"/>
            <a:ext cx="4015800" cy="39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952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09520"/>
            <a:ext cx="8229600" cy="30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952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22480"/>
            <a:ext cx="4015800" cy="18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22480"/>
            <a:ext cx="4015800" cy="39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02920"/>
            <a:ext cx="4015800" cy="18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952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12248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952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22480"/>
            <a:ext cx="4015800" cy="39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122480"/>
            <a:ext cx="4015800" cy="18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02920"/>
            <a:ext cx="4015800" cy="18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952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22480"/>
            <a:ext cx="4015800" cy="18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22480"/>
            <a:ext cx="4015800" cy="18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02920"/>
            <a:ext cx="8229600" cy="18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0952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22480"/>
            <a:ext cx="8229600" cy="18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02920"/>
            <a:ext cx="8229600" cy="18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952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22480"/>
            <a:ext cx="4015800" cy="18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122480"/>
            <a:ext cx="4015800" cy="18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02920"/>
            <a:ext cx="4015800" cy="18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02920"/>
            <a:ext cx="4015800" cy="18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952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22480"/>
            <a:ext cx="2649600" cy="18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122480"/>
            <a:ext cx="2649600" cy="18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122480"/>
            <a:ext cx="2649600" cy="18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02920"/>
            <a:ext cx="2649600" cy="18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02920"/>
            <a:ext cx="2649600" cy="18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02920"/>
            <a:ext cx="2649600" cy="18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952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12248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952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22480"/>
            <a:ext cx="4015800" cy="39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122480"/>
            <a:ext cx="4015800" cy="39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952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09520"/>
            <a:ext cx="8229600" cy="30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952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22480"/>
            <a:ext cx="4015800" cy="18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22480"/>
            <a:ext cx="4015800" cy="39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202920"/>
            <a:ext cx="4015800" cy="18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952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22480"/>
            <a:ext cx="4015800" cy="39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22480"/>
            <a:ext cx="4015800" cy="18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202920"/>
            <a:ext cx="4015800" cy="18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952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22480"/>
            <a:ext cx="4015800" cy="18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22480"/>
            <a:ext cx="4015800" cy="18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202920"/>
            <a:ext cx="8229600" cy="18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10.png"/>
          <p:cNvPicPr/>
          <p:nvPr/>
        </p:nvPicPr>
        <p:blipFill>
          <a:blip r:embed="rId3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952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2248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097280" indent="-2192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36120" indent="-2192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图片 8" descr="4.png"/>
          <p:cNvPicPr/>
          <p:nvPr/>
        </p:nvPicPr>
        <p:blipFill>
          <a:blip r:embed="rId3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40" name="图片 13" descr="9.png"/>
          <p:cNvPicPr/>
          <p:nvPr/>
        </p:nvPicPr>
        <p:blipFill>
          <a:blip r:embed="rId4"/>
          <a:stretch/>
        </p:blipFill>
        <p:spPr>
          <a:xfrm>
            <a:off x="0" y="2798640"/>
            <a:ext cx="9144000" cy="117720"/>
          </a:xfrm>
          <a:prstGeom prst="rect">
            <a:avLst/>
          </a:prstGeom>
          <a:ln w="0">
            <a:noFill/>
          </a:ln>
        </p:spPr>
      </p:pic>
      <p:pic>
        <p:nvPicPr>
          <p:cNvPr id="41" name="图片 9" descr="7.png"/>
          <p:cNvPicPr/>
          <p:nvPr/>
        </p:nvPicPr>
        <p:blipFill>
          <a:blip r:embed="rId5"/>
          <a:srcRect l="0" t="0" r="0" b="57389"/>
          <a:stretch/>
        </p:blipFill>
        <p:spPr>
          <a:xfrm>
            <a:off x="0" y="3457440"/>
            <a:ext cx="9144000" cy="962280"/>
          </a:xfrm>
          <a:prstGeom prst="rect">
            <a:avLst/>
          </a:prstGeom>
          <a:ln w="0">
            <a:noFill/>
          </a:ln>
        </p:spPr>
      </p:pic>
      <p:pic>
        <p:nvPicPr>
          <p:cNvPr id="42" name="图片 7" descr="6.png"/>
          <p:cNvPicPr/>
          <p:nvPr/>
        </p:nvPicPr>
        <p:blipFill>
          <a:blip r:embed="rId6"/>
          <a:stretch/>
        </p:blipFill>
        <p:spPr>
          <a:xfrm>
            <a:off x="7920" y="3637080"/>
            <a:ext cx="9144000" cy="2259000"/>
          </a:xfrm>
          <a:prstGeom prst="rect">
            <a:avLst/>
          </a:prstGeom>
          <a:ln w="0">
            <a:noFill/>
          </a:ln>
        </p:spPr>
      </p:pic>
      <p:pic>
        <p:nvPicPr>
          <p:cNvPr id="43" name="图片 11" descr="8.png"/>
          <p:cNvPicPr/>
          <p:nvPr/>
        </p:nvPicPr>
        <p:blipFill>
          <a:blip r:embed="rId7"/>
          <a:stretch/>
        </p:blipFill>
        <p:spPr>
          <a:xfrm>
            <a:off x="0" y="3249720"/>
            <a:ext cx="9144000" cy="450720"/>
          </a:xfrm>
          <a:prstGeom prst="rect">
            <a:avLst/>
          </a:prstGeom>
          <a:ln w="0">
            <a:noFill/>
          </a:ln>
        </p:spPr>
      </p:pic>
      <p:pic>
        <p:nvPicPr>
          <p:cNvPr id="44" name="图片 12" descr="8.png"/>
          <p:cNvPicPr/>
          <p:nvPr/>
        </p:nvPicPr>
        <p:blipFill>
          <a:blip r:embed="rId8"/>
          <a:stretch/>
        </p:blipFill>
        <p:spPr>
          <a:xfrm>
            <a:off x="0" y="2819520"/>
            <a:ext cx="9144000" cy="444240"/>
          </a:xfrm>
          <a:prstGeom prst="rect">
            <a:avLst/>
          </a:prstGeom>
          <a:ln w="0">
            <a:noFill/>
          </a:ln>
        </p:spPr>
      </p:pic>
      <p:pic>
        <p:nvPicPr>
          <p:cNvPr id="45" name="图片 14" descr="9.png"/>
          <p:cNvPicPr/>
          <p:nvPr/>
        </p:nvPicPr>
        <p:blipFill>
          <a:blip r:embed="rId9"/>
          <a:stretch/>
        </p:blipFill>
        <p:spPr>
          <a:xfrm>
            <a:off x="0" y="3713040"/>
            <a:ext cx="9144000" cy="1177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952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12248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097280" indent="-2192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36120" indent="-2192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50440" y="1363320"/>
            <a:ext cx="6504120" cy="116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  <a:ea typeface="宋体"/>
              </a:rPr>
              <a:t>第</a:t>
            </a:r>
            <a:r>
              <a:rPr b="1" lang="en-US" sz="3200" spc="-1" strike="noStrike">
                <a:solidFill>
                  <a:srgbClr val="ffff00"/>
                </a:solidFill>
                <a:latin typeface="宋体"/>
                <a:ea typeface="宋体"/>
              </a:rPr>
              <a:t>5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  <a:ea typeface="宋体"/>
              </a:rPr>
              <a:t>节  树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17400" y="2950920"/>
            <a:ext cx="8275680" cy="17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     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前两章学习的栈和队列属于线性结构。在这种结构中，数据元素的逻辑位置之间呈线性关系，每一个数据元素通常只有一个前件（除第一个元素外）和一个后件（除最后一个元素外）。在实际生活中，可以用线性结构描述数据元素之间逻辑关系的问题是很广泛的，但也有很多问题不能依靠线性结构来解决，例如家谱、行政组织机构等都是非线性的数据结构。其中树就是一种非线性的数据结构。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12248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宋体"/>
                <a:ea typeface="宋体"/>
              </a:rPr>
              <a:t>【性质</a:t>
            </a:r>
            <a:r>
              <a:rPr b="0" lang="zh-CN" sz="2000" spc="-1" strike="noStrike">
                <a:solidFill>
                  <a:srgbClr val="ffff00"/>
                </a:solidFill>
                <a:latin typeface="宋体"/>
                <a:ea typeface="宋体"/>
              </a:rPr>
              <a:t>3</a:t>
            </a:r>
            <a:r>
              <a:rPr b="0" lang="zh-CN" sz="2000" spc="-1" strike="noStrike">
                <a:solidFill>
                  <a:srgbClr val="ffff00"/>
                </a:solidFill>
                <a:latin typeface="宋体"/>
                <a:ea typeface="宋体"/>
              </a:rPr>
              <a:t>】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对任意一棵二叉树，如果其叶结点数为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n0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度为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的结点数为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n2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则一定满足：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n0=n2+1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证明：因为二叉树中所有结点的度数均不大于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所以结点总数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记为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n)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应等于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0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度结点数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n0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度结点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n1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和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度结点数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n2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之和：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n=n</a:t>
            </a:r>
            <a:r>
              <a:rPr b="0" lang="zh-CN" sz="2000" spc="-1" strike="noStrike" baseline="-25000">
                <a:solidFill>
                  <a:srgbClr val="ffffff"/>
                </a:solidFill>
                <a:latin typeface="宋体"/>
                <a:ea typeface="宋体"/>
              </a:rPr>
              <a:t>o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+n</a:t>
            </a:r>
            <a:r>
              <a:rPr b="0" lang="zh-CN" sz="2000" spc="-1" strike="noStrike" baseline="-25000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+n</a:t>
            </a:r>
            <a:r>
              <a:rPr b="0" lang="zh-CN" sz="2000" spc="-1" strike="noStrike" baseline="-25000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  ……(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式子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1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另一方面，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度结点有一个孩子，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度结点有两个孩子，故二叉树中孩子结点总数是：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n</a:t>
            </a:r>
            <a:r>
              <a:rPr b="0" lang="zh-CN" sz="2000" spc="-1" strike="noStrike" baseline="-25000">
                <a:solidFill>
                  <a:srgbClr val="ffffff"/>
                </a:solidFill>
                <a:latin typeface="宋体"/>
                <a:ea typeface="宋体"/>
              </a:rPr>
              <a:t>l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+2n</a:t>
            </a:r>
            <a:r>
              <a:rPr b="0" lang="zh-CN" sz="2000" spc="-1" strike="noStrike" baseline="-25000">
                <a:solidFill>
                  <a:srgbClr val="ffffff"/>
                </a:solidFill>
                <a:latin typeface="宋体"/>
                <a:ea typeface="宋体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树中只有根结点不是任何结点的孩子，故二叉树中的结点总数又可表示为：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n=n</a:t>
            </a:r>
            <a:r>
              <a:rPr b="0" lang="zh-CN" sz="2000" spc="-1" strike="noStrike" baseline="-25000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+2n</a:t>
            </a:r>
            <a:r>
              <a:rPr b="0" lang="zh-CN" sz="2000" spc="-1" strike="noStrike" baseline="-25000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+1 ……(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式子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2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由式子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和式子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得到：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n</a:t>
            </a:r>
            <a:r>
              <a:rPr b="0" lang="zh-CN" sz="2000" spc="-1" strike="noStrike" baseline="-25000">
                <a:solidFill>
                  <a:srgbClr val="ffffff"/>
                </a:solidFill>
                <a:latin typeface="宋体"/>
                <a:ea typeface="宋体"/>
              </a:rPr>
              <a:t>o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=n</a:t>
            </a:r>
            <a:r>
              <a:rPr b="0" lang="zh-CN" sz="2000" spc="-1" strike="noStrike" baseline="-25000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+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287280"/>
            <a:ext cx="822960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宋体"/>
                <a:ea typeface="宋体"/>
              </a:rPr>
              <a:t>  </a:t>
            </a:r>
            <a:r>
              <a:rPr b="0" lang="zh-CN" sz="2000" spc="-1" strike="noStrike">
                <a:solidFill>
                  <a:srgbClr val="ffff00"/>
                </a:solidFill>
                <a:latin typeface="宋体"/>
                <a:ea typeface="宋体"/>
              </a:rPr>
              <a:t>【性质</a:t>
            </a:r>
            <a:r>
              <a:rPr b="0" lang="zh-CN" sz="2000" spc="-1" strike="noStrike">
                <a:solidFill>
                  <a:srgbClr val="ffff00"/>
                </a:solidFill>
                <a:latin typeface="宋体"/>
                <a:ea typeface="宋体"/>
              </a:rPr>
              <a:t>4</a:t>
            </a:r>
            <a:r>
              <a:rPr b="0" lang="zh-CN" sz="2000" spc="-1" strike="noStrike">
                <a:solidFill>
                  <a:srgbClr val="ffff00"/>
                </a:solidFill>
                <a:latin typeface="宋体"/>
                <a:ea typeface="宋体"/>
              </a:rPr>
              <a:t>】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具有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n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个结点的完全二叉树的深度为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floor(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log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2n)+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证明：假设深度为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k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则根据完全二叉树的定义，前面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k-1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层一定是满的，所以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n&gt;2</a:t>
            </a:r>
            <a:r>
              <a:rPr b="0" lang="zh-CN" sz="2000" spc="-1" strike="noStrike" baseline="30000">
                <a:solidFill>
                  <a:srgbClr val="ffffff"/>
                </a:solidFill>
                <a:latin typeface="宋体"/>
                <a:ea typeface="宋体"/>
              </a:rPr>
              <a:t>k–1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-1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。但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n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又要满足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n&lt;=2</a:t>
            </a:r>
            <a:r>
              <a:rPr b="0" lang="zh-CN" sz="2000" spc="-1" strike="noStrike" baseline="30000">
                <a:solidFill>
                  <a:srgbClr val="ffffff"/>
                </a:solidFill>
                <a:latin typeface="宋体"/>
                <a:ea typeface="宋体"/>
              </a:rPr>
              <a:t>k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 -1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。所以，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0" lang="zh-CN" sz="2000" spc="-1" strike="noStrike" baseline="30000">
                <a:solidFill>
                  <a:srgbClr val="ffffff"/>
                </a:solidFill>
                <a:latin typeface="宋体"/>
                <a:ea typeface="宋体"/>
              </a:rPr>
              <a:t>k–1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–1&lt;n&lt;=2</a:t>
            </a:r>
            <a:r>
              <a:rPr b="0" lang="zh-CN" sz="2000" spc="-1" strike="noStrike" baseline="30000">
                <a:solidFill>
                  <a:srgbClr val="ffffff"/>
                </a:solidFill>
                <a:latin typeface="宋体"/>
                <a:ea typeface="宋体"/>
              </a:rPr>
              <a:t>k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 -1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。变换一下为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0" lang="zh-CN" sz="2000" spc="-1" strike="noStrike" baseline="30000">
                <a:solidFill>
                  <a:srgbClr val="ffffff"/>
                </a:solidFill>
                <a:latin typeface="宋体"/>
                <a:ea typeface="宋体"/>
              </a:rPr>
              <a:t>k–1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&lt;=n&lt;2</a:t>
            </a:r>
            <a:r>
              <a:rPr b="0" lang="zh-CN" sz="2000" spc="-1" strike="noStrike" baseline="30000">
                <a:solidFill>
                  <a:srgbClr val="ffffff"/>
                </a:solidFill>
                <a:latin typeface="宋体"/>
                <a:ea typeface="宋体"/>
              </a:rPr>
              <a:t>k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以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为底取对数得到：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k-1&lt;=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log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2n&lt;k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。而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k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是整数，所以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k= floor(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log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2n)+1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宋体"/>
                <a:ea typeface="宋体"/>
              </a:rPr>
              <a:t>  </a:t>
            </a:r>
            <a:r>
              <a:rPr b="0" lang="zh-CN" sz="2000" spc="-1" strike="noStrike">
                <a:solidFill>
                  <a:srgbClr val="ffff00"/>
                </a:solidFill>
                <a:latin typeface="宋体"/>
                <a:ea typeface="宋体"/>
              </a:rPr>
              <a:t>【性质</a:t>
            </a:r>
            <a:r>
              <a:rPr b="0" lang="zh-CN" sz="2000" spc="-1" strike="noStrike">
                <a:solidFill>
                  <a:srgbClr val="ffff00"/>
                </a:solidFill>
                <a:latin typeface="宋体"/>
                <a:ea typeface="宋体"/>
              </a:rPr>
              <a:t>5</a:t>
            </a:r>
            <a:r>
              <a:rPr b="0" lang="zh-CN" sz="2000" spc="-1" strike="noStrike">
                <a:solidFill>
                  <a:srgbClr val="ffff00"/>
                </a:solidFill>
                <a:latin typeface="宋体"/>
                <a:ea typeface="宋体"/>
              </a:rPr>
              <a:t>】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对于一棵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n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个结点的完全二叉树，对任一个结点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编号为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)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有：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①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如果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i=1,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则结点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i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为根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,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无父结点；如果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i&gt;1,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则其父结点编号为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i/2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如果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2*i&gt;n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则结点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i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无左孩子（当然也无右孩子，为什么？即结点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i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为叶结点）；否则左孩子编号为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2*i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②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如果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2*i+1&gt;n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则结点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i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无右孩子；否则右孩子编号为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2*i+1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12248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证明：略，我们只要验证一下即可。总结如图：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18" name="Object 3"/>
          <p:cNvGraphicFramePr/>
          <p:nvPr/>
        </p:nvGraphicFramePr>
        <p:xfrm>
          <a:off x="909720" y="1876320"/>
          <a:ext cx="7562880" cy="299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3" descr="图片1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9720" y="1876320"/>
                    <a:ext cx="7562880" cy="29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0952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Calibri"/>
              </a:rPr>
              <a:t>六、遍历二叉树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880560"/>
            <a:ext cx="8229600" cy="422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在二叉树的应用中，常常要求在树中查找具有某种特征的结点，或者对全部结点逐一进行某种处理。这就是二叉树的遍历问题。所谓二叉树的遍历是指按一定的规律和次序访问树中的各个结点，而且每个结点仅被访问一次。“访问”的含义很广，可以是对结点作各种处理，如输出结点的信息等。遍历一般按照从左到右的顺序，共有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种遍历方法，先（根）序遍历，中（根）序遍历，后（根）序遍历。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宋体"/>
                <a:ea typeface="宋体"/>
              </a:rPr>
              <a:t>㈠先序遍历的操作定义如下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：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若二叉树为空，则空操作，否则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①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访问根结点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②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先序遍历左子树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③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先序遍历右子树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宋体"/>
                <a:ea typeface="宋体"/>
              </a:rPr>
              <a:t>	</a:t>
            </a:r>
            <a:r>
              <a:rPr b="0" lang="zh-CN" sz="1200" spc="-1" strike="noStrike">
                <a:solidFill>
                  <a:srgbClr val="ffffff"/>
                </a:solidFill>
                <a:latin typeface="宋体"/>
                <a:ea typeface="宋体"/>
              </a:rPr>
              <a:t>void preorder(tree bt)  //</a:t>
            </a:r>
            <a:r>
              <a:rPr b="0" lang="zh-CN" sz="1200" spc="-1" strike="noStrike">
                <a:solidFill>
                  <a:srgbClr val="ffffff"/>
                </a:solidFill>
                <a:latin typeface="宋体"/>
                <a:ea typeface="宋体"/>
              </a:rPr>
              <a:t>先序遍历根结点为</a:t>
            </a:r>
            <a:r>
              <a:rPr b="0" lang="zh-CN" sz="1200" spc="-1" strike="noStrike">
                <a:solidFill>
                  <a:srgbClr val="ffffff"/>
                </a:solidFill>
                <a:latin typeface="宋体"/>
                <a:ea typeface="宋体"/>
              </a:rPr>
              <a:t>bt</a:t>
            </a:r>
            <a:r>
              <a:rPr b="0" lang="zh-CN" sz="1200" spc="-1" strike="noStrike">
                <a:solidFill>
                  <a:srgbClr val="ffffff"/>
                </a:solidFill>
                <a:latin typeface="宋体"/>
                <a:ea typeface="宋体"/>
              </a:rPr>
              <a:t>的二叉树的递归算法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宋体"/>
                <a:ea typeface="宋体"/>
              </a:rPr>
              <a:t>	</a:t>
            </a:r>
            <a:r>
              <a:rPr b="0" lang="zh-CN" sz="1200" spc="-1" strike="noStrike">
                <a:solidFill>
                  <a:srgbClr val="ffffff"/>
                </a:solidFill>
                <a:latin typeface="宋体"/>
                <a:ea typeface="宋体"/>
              </a:rPr>
              <a:t>{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宋体"/>
                <a:ea typeface="宋体"/>
              </a:rPr>
              <a:t>	</a:t>
            </a:r>
            <a:r>
              <a:rPr b="0" lang="zh-CN" sz="12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宋体"/>
                <a:ea typeface="宋体"/>
              </a:rPr>
              <a:t>if(bt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宋体"/>
                <a:ea typeface="宋体"/>
              </a:rPr>
              <a:t>	</a:t>
            </a:r>
            <a:r>
              <a:rPr b="0" lang="zh-CN" sz="1200" spc="-1" strike="noStrike">
                <a:solidFill>
                  <a:srgbClr val="ffffff"/>
                </a:solidFill>
                <a:latin typeface="宋体"/>
                <a:ea typeface="宋体"/>
              </a:rPr>
              <a:t>   </a:t>
            </a:r>
            <a:r>
              <a:rPr b="0" lang="zh-CN" sz="1200" spc="-1" strike="noStrike">
                <a:solidFill>
                  <a:srgbClr val="ffffff"/>
                </a:solidFill>
                <a:latin typeface="宋体"/>
                <a:ea typeface="宋体"/>
              </a:rPr>
              <a:t>{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宋体"/>
                <a:ea typeface="宋体"/>
              </a:rPr>
              <a:t>	</a:t>
            </a:r>
            <a:r>
              <a:rPr b="0" lang="zh-CN" sz="1200" spc="-1" strike="noStrike">
                <a:solidFill>
                  <a:srgbClr val="ffffff"/>
                </a:solidFill>
                <a:latin typeface="宋体"/>
                <a:ea typeface="宋体"/>
              </a:rPr>
              <a:t>      </a:t>
            </a:r>
            <a:r>
              <a:rPr b="0" lang="zh-CN" sz="1200" spc="-1" strike="noStrike">
                <a:solidFill>
                  <a:srgbClr val="ffffff"/>
                </a:solidFill>
                <a:latin typeface="宋体"/>
                <a:ea typeface="宋体"/>
              </a:rPr>
              <a:t>cout &lt;&lt; bt-&gt;data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宋体"/>
                <a:ea typeface="宋体"/>
              </a:rPr>
              <a:t>	</a:t>
            </a:r>
            <a:r>
              <a:rPr b="0" lang="zh-CN" sz="1200" spc="-1" strike="noStrike">
                <a:solidFill>
                  <a:srgbClr val="ffffff"/>
                </a:solidFill>
                <a:latin typeface="宋体"/>
                <a:ea typeface="宋体"/>
              </a:rPr>
              <a:t>      </a:t>
            </a:r>
            <a:r>
              <a:rPr b="0" lang="zh-CN" sz="1200" spc="-1" strike="noStrike">
                <a:solidFill>
                  <a:srgbClr val="ffffff"/>
                </a:solidFill>
                <a:latin typeface="宋体"/>
                <a:ea typeface="宋体"/>
              </a:rPr>
              <a:t>preorder(bt-&gt;lchild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宋体"/>
                <a:ea typeface="宋体"/>
              </a:rPr>
              <a:t>	</a:t>
            </a:r>
            <a:r>
              <a:rPr b="0" lang="zh-CN" sz="1200" spc="-1" strike="noStrike">
                <a:solidFill>
                  <a:srgbClr val="ffffff"/>
                </a:solidFill>
                <a:latin typeface="宋体"/>
                <a:ea typeface="宋体"/>
              </a:rPr>
              <a:t>      </a:t>
            </a:r>
            <a:r>
              <a:rPr b="0" lang="zh-CN" sz="1200" spc="-1" strike="noStrike">
                <a:solidFill>
                  <a:srgbClr val="ffffff"/>
                </a:solidFill>
                <a:latin typeface="宋体"/>
                <a:ea typeface="宋体"/>
              </a:rPr>
              <a:t>preorder(bt-&gt;rchild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宋体"/>
                <a:ea typeface="宋体"/>
              </a:rPr>
              <a:t>	</a:t>
            </a:r>
            <a:r>
              <a:rPr b="0" lang="zh-CN" sz="1200" spc="-1" strike="noStrike">
                <a:solidFill>
                  <a:srgbClr val="ffffff"/>
                </a:solidFill>
                <a:latin typeface="宋体"/>
                <a:ea typeface="宋体"/>
              </a:rPr>
              <a:t>   </a:t>
            </a:r>
            <a:r>
              <a:rPr b="0" lang="zh-CN" sz="1200" spc="-1" strike="noStrike">
                <a:solidFill>
                  <a:srgbClr val="ffffff"/>
                </a:solidFill>
                <a:latin typeface="宋体"/>
                <a:ea typeface="宋体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宋体"/>
                <a:ea typeface="宋体"/>
              </a:rPr>
              <a:t>	</a:t>
            </a:r>
            <a:r>
              <a:rPr b="0" lang="zh-CN" sz="1200" spc="-1" strike="noStrike">
                <a:solidFill>
                  <a:srgbClr val="ffffff"/>
                </a:solidFill>
                <a:latin typeface="宋体"/>
                <a:ea typeface="宋体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22" name="Object 4"/>
          <p:cNvGraphicFramePr/>
          <p:nvPr/>
        </p:nvGraphicFramePr>
        <p:xfrm>
          <a:off x="5927760" y="3187800"/>
          <a:ext cx="2863800" cy="23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27760" y="3187800"/>
                    <a:ext cx="2863800" cy="23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Text Box 5"/>
          <p:cNvSpPr/>
          <p:nvPr/>
        </p:nvSpPr>
        <p:spPr>
          <a:xfrm>
            <a:off x="5448240" y="2705040"/>
            <a:ext cx="3797280" cy="36828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先序遍历此图结果为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247536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12248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宋体"/>
                <a:ea typeface="宋体"/>
              </a:rPr>
              <a:t>㈡中序遍历的操作定义如下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：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若二叉树为空，则空操作，否则                         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①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中序遍历左子树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②访问根结点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③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中序遍历右子树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　　　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void inorder(tree bt)  //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中序遍历根结点为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bt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的二叉树的递归算法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　　　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{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　　　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if(bt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　　　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{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　　　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inorder(bt-&gt;lchild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　　　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cout &lt;&lt; bt-&gt;data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　　　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inorder(bt-&gt;rchild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　　　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　　　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26" name="Object 3"/>
          <p:cNvGraphicFramePr/>
          <p:nvPr/>
        </p:nvGraphicFramePr>
        <p:xfrm>
          <a:off x="5942160" y="2668680"/>
          <a:ext cx="2865240" cy="23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2160" y="2668680"/>
                    <a:ext cx="2865240" cy="23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Text Box 4"/>
          <p:cNvSpPr/>
          <p:nvPr/>
        </p:nvSpPr>
        <p:spPr>
          <a:xfrm>
            <a:off x="6005160" y="2055960"/>
            <a:ext cx="2745360" cy="36828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序遍历此图结果为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425138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12248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宋体"/>
                <a:ea typeface="宋体"/>
              </a:rPr>
              <a:t>㈢后序遍历的操作定义如下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：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若二叉树为空，则空操作，否则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①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后序遍历左子树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②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后序遍历右子树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③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访问根结点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Arial"/>
              </a:rPr>
              <a:t>void postorder(tree bt)  //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Arial"/>
              </a:rPr>
              <a:t>后序遍历根结点为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Arial"/>
              </a:rPr>
              <a:t>b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Arial"/>
              </a:rPr>
              <a:t>的二叉树的递归算法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Arial"/>
              </a:rPr>
              <a:t>{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Arial"/>
              </a:rPr>
              <a:t>if(bt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Arial"/>
              </a:rPr>
              <a:t>{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   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Arial"/>
              </a:rPr>
              <a:t>postorder(bt-&gt;lchild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  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Arial"/>
              </a:rPr>
              <a:t>postorder(bt-&gt;rchild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   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Arial"/>
              </a:rPr>
              <a:t>cout &lt;&lt; bt-&gt;data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Arial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Arial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0" name="Object 3"/>
          <p:cNvGraphicFramePr/>
          <p:nvPr/>
        </p:nvGraphicFramePr>
        <p:xfrm>
          <a:off x="5942160" y="2668680"/>
          <a:ext cx="2865240" cy="23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2160" y="2668680"/>
                    <a:ext cx="2865240" cy="23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Text Box 4"/>
          <p:cNvSpPr/>
          <p:nvPr/>
        </p:nvSpPr>
        <p:spPr>
          <a:xfrm>
            <a:off x="6005160" y="2055960"/>
            <a:ext cx="2745360" cy="36828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后序遍历此图结果为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7452896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12248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关于前面讲的表达式树，我们可以分别用先序、中序、后序的遍历方法得出完全不同的遍历结果，如对于下图中遍历结果如下，它们正好对应着表达式的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种表示方法。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-+a*b-cd/ef  (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前缀表示、波兰式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a+b*c-d-e/f  (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中缀表示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abcd-*+ef/-  (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后缀表示、逆波兰式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4" name="Object 3"/>
          <p:cNvGraphicFramePr/>
          <p:nvPr/>
        </p:nvGraphicFramePr>
        <p:xfrm>
          <a:off x="5295960" y="1766880"/>
          <a:ext cx="3211560" cy="34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5960" y="1766880"/>
                    <a:ext cx="3211560" cy="34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8"/>
          <p:cNvSpPr/>
          <p:nvPr/>
        </p:nvSpPr>
        <p:spPr>
          <a:xfrm>
            <a:off x="0" y="817560"/>
            <a:ext cx="8834400" cy="338580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结论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已知前序序列和中序序列可以确定出二叉树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已知中序序列和后序序列也可以确定出二叉树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但，已知前序序列和后序序列却不可以确定出二叉树；为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例题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：有二叉树中序序列为ＡＢＣＥＦＧＨＤ，后序序列为：ＡＢＦＨＧＥＤＣ。请画出此二叉树，并求前序序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解答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：根据后序序列知根节点为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　　因此左子树：中序序列为Ａ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　　　　　　　　后序序列为Ａ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　　右子树：　　中序序列为ＥＦＧＨ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　　　　　　　　后序序列为ＦＨＧＥ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　　依次推得该二叉树的结构图。（如右图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前序序列为：ＣＢＡＤＥＧＦＨ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1271"/>
          <p:cNvGrpSpPr/>
          <p:nvPr/>
        </p:nvGrpSpPr>
        <p:grpSpPr>
          <a:xfrm>
            <a:off x="6238800" y="2838600"/>
            <a:ext cx="1932120" cy="2001240"/>
            <a:chOff x="6238800" y="2838600"/>
            <a:chExt cx="1932120" cy="2001240"/>
          </a:xfrm>
        </p:grpSpPr>
        <p:sp>
          <p:nvSpPr>
            <p:cNvPr id="138" name="Text Box 1272"/>
            <p:cNvSpPr/>
            <p:nvPr/>
          </p:nvSpPr>
          <p:spPr>
            <a:xfrm>
              <a:off x="6985800" y="2838600"/>
              <a:ext cx="43632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1273"/>
            <p:cNvSpPr/>
            <p:nvPr/>
          </p:nvSpPr>
          <p:spPr>
            <a:xfrm>
              <a:off x="6573960" y="3155760"/>
              <a:ext cx="43632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1274"/>
            <p:cNvSpPr/>
            <p:nvPr/>
          </p:nvSpPr>
          <p:spPr>
            <a:xfrm>
              <a:off x="7395480" y="3168000"/>
              <a:ext cx="43632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Ｄ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1275"/>
            <p:cNvSpPr/>
            <p:nvPr/>
          </p:nvSpPr>
          <p:spPr>
            <a:xfrm>
              <a:off x="6238800" y="3607200"/>
              <a:ext cx="43632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Ａ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1276"/>
            <p:cNvSpPr/>
            <p:nvPr/>
          </p:nvSpPr>
          <p:spPr>
            <a:xfrm>
              <a:off x="7098480" y="3607200"/>
              <a:ext cx="43632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Ｅ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1277"/>
            <p:cNvSpPr/>
            <p:nvPr/>
          </p:nvSpPr>
          <p:spPr>
            <a:xfrm>
              <a:off x="7397280" y="3985560"/>
              <a:ext cx="43632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Ｇ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1278"/>
            <p:cNvSpPr/>
            <p:nvPr/>
          </p:nvSpPr>
          <p:spPr>
            <a:xfrm>
              <a:off x="7023960" y="4485960"/>
              <a:ext cx="43632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Ｆ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1279"/>
            <p:cNvSpPr/>
            <p:nvPr/>
          </p:nvSpPr>
          <p:spPr>
            <a:xfrm>
              <a:off x="7734600" y="4485960"/>
              <a:ext cx="43632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Ｈ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280"/>
            <p:cNvSpPr/>
            <p:nvPr/>
          </p:nvSpPr>
          <p:spPr>
            <a:xfrm flipH="1">
              <a:off x="6874200" y="3033000"/>
              <a:ext cx="248760" cy="24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1281"/>
            <p:cNvSpPr/>
            <p:nvPr/>
          </p:nvSpPr>
          <p:spPr>
            <a:xfrm>
              <a:off x="7259400" y="3070440"/>
              <a:ext cx="273600" cy="20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1282"/>
            <p:cNvSpPr/>
            <p:nvPr/>
          </p:nvSpPr>
          <p:spPr>
            <a:xfrm flipH="1">
              <a:off x="6525360" y="3424320"/>
              <a:ext cx="199080" cy="28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283"/>
            <p:cNvSpPr/>
            <p:nvPr/>
          </p:nvSpPr>
          <p:spPr>
            <a:xfrm flipH="1">
              <a:off x="7372440" y="3460680"/>
              <a:ext cx="174240" cy="24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1284"/>
            <p:cNvSpPr/>
            <p:nvPr/>
          </p:nvSpPr>
          <p:spPr>
            <a:xfrm>
              <a:off x="7347600" y="3863520"/>
              <a:ext cx="199080" cy="20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1285"/>
            <p:cNvSpPr/>
            <p:nvPr/>
          </p:nvSpPr>
          <p:spPr>
            <a:xfrm flipH="1">
              <a:off x="7272720" y="4254480"/>
              <a:ext cx="285480" cy="29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1286"/>
            <p:cNvSpPr/>
            <p:nvPr/>
          </p:nvSpPr>
          <p:spPr>
            <a:xfrm>
              <a:off x="7646400" y="4266360"/>
              <a:ext cx="235800" cy="26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112248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结论：已知先序序列和中序序列可以确定出二叉树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；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　已知中序序列和后序序列也可以确定出二叉树；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但，已知先序序列和后序序列却不可以确定出二叉树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；为什么？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例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题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4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：已知结点的先序序列为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ABCDEFG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中序序列为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CBEDAFG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。构造出二叉树。过程见下图：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54" name="Object 3"/>
          <p:cNvGraphicFramePr/>
          <p:nvPr/>
        </p:nvGraphicFramePr>
        <p:xfrm>
          <a:off x="960480" y="3341520"/>
          <a:ext cx="6537240" cy="237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0480" y="3341520"/>
                    <a:ext cx="6537240" cy="23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7"/>
          <p:cNvSpPr/>
          <p:nvPr/>
        </p:nvSpPr>
        <p:spPr>
          <a:xfrm>
            <a:off x="3574440" y="2503440"/>
            <a:ext cx="199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课堂练习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75840" y="162000"/>
            <a:ext cx="83106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宋体"/>
              </a:rPr>
              <a:t>一、树的定义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一棵树是由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n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（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n&gt;0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）个元素组成的有限集合，其中：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（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）每个元素称为结点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(node)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；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（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）有一个特定的结点，称为根结点或树根（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root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）；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（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）除根结点外，其余结点能分成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m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（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m&gt;=0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）个互不相交的有限集合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T</a:t>
            </a:r>
            <a:r>
              <a:rPr b="0" lang="zh-CN" sz="2000" spc="-1" strike="noStrike" baseline="-25000">
                <a:solidFill>
                  <a:srgbClr val="ffffff"/>
                </a:solidFill>
                <a:latin typeface="宋体"/>
                <a:ea typeface="宋体"/>
              </a:rPr>
              <a:t>0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,T</a:t>
            </a:r>
            <a:r>
              <a:rPr b="0" lang="zh-CN" sz="2000" spc="-1" strike="noStrike" baseline="-25000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,T</a:t>
            </a:r>
            <a:r>
              <a:rPr b="0" lang="zh-CN" sz="2000" spc="-1" strike="noStrike" baseline="-25000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,……T</a:t>
            </a:r>
            <a:r>
              <a:rPr b="0" lang="zh-CN" sz="2000" spc="-1" strike="noStrike" baseline="-25000">
                <a:solidFill>
                  <a:srgbClr val="ffffff"/>
                </a:solidFill>
                <a:latin typeface="宋体"/>
                <a:ea typeface="宋体"/>
              </a:rPr>
              <a:t>m-1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。其中的每个子集又都是一棵树，这些集合称为这棵树的子树。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如下图是一棵典型的树：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94" name="Object 4"/>
          <p:cNvGraphicFramePr/>
          <p:nvPr/>
        </p:nvGraphicFramePr>
        <p:xfrm>
          <a:off x="3830760" y="2355840"/>
          <a:ext cx="4859280" cy="301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30760" y="2355840"/>
                    <a:ext cx="4859280" cy="30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4"/>
          <p:cNvSpPr/>
          <p:nvPr/>
        </p:nvSpPr>
        <p:spPr>
          <a:xfrm>
            <a:off x="484200" y="466560"/>
            <a:ext cx="803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【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IP2001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提高组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】一棵二叉树的高度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，所有结点的度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，或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，则此树最少有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）个结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．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pt-BR" sz="1800" spc="-1" strike="noStrike" baseline="30000">
                <a:solidFill>
                  <a:srgbClr val="ffffff"/>
                </a:solidFill>
                <a:latin typeface="Arial"/>
              </a:rPr>
              <a:t>h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-1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．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2h-1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．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2h+1      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．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h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1109160" y="1801800"/>
            <a:ext cx="4015440" cy="64260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Times New Roman"/>
              </a:rPr>
              <a:t>【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  <a:ea typeface="Times New Roman"/>
              </a:rPr>
              <a:t>答案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Times New Roman"/>
              </a:rPr>
              <a:t>】</a:t>
            </a:r>
            <a:r>
              <a:rPr b="0" lang="pt-BR" sz="1800" spc="-1" strike="noStrike">
                <a:solidFill>
                  <a:srgbClr val="ffffff"/>
                </a:solidFill>
                <a:latin typeface="宋体"/>
                <a:ea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宋体"/>
                <a:ea typeface="Times New Roman"/>
              </a:rPr>
              <a:t>【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  <a:ea typeface="Times New Roman"/>
              </a:rPr>
              <a:t>分析</a:t>
            </a:r>
            <a:r>
              <a:rPr b="0" lang="pt-BR" sz="1800" spc="-1" strike="noStrike">
                <a:solidFill>
                  <a:srgbClr val="ffffff"/>
                </a:solidFill>
                <a:latin typeface="宋体"/>
                <a:ea typeface="Times New Roman"/>
              </a:rPr>
              <a:t>】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Times New Roman"/>
              </a:rPr>
              <a:t>符合题意最小节点的二叉树是如下形状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340"/>
          <p:cNvPicPr/>
          <p:nvPr/>
        </p:nvPicPr>
        <p:blipFill>
          <a:blip r:embed="rId1"/>
          <a:stretch/>
        </p:blipFill>
        <p:spPr>
          <a:xfrm>
            <a:off x="2631960" y="2658960"/>
            <a:ext cx="2614680" cy="190188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6"/>
          <p:cNvSpPr/>
          <p:nvPr/>
        </p:nvSpPr>
        <p:spPr>
          <a:xfrm>
            <a:off x="850680" y="4916880"/>
            <a:ext cx="5713200" cy="33732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Times New Roman"/>
              </a:rPr>
              <a:t>    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Times New Roman"/>
              </a:rPr>
              <a:t>除根节点所在层节点数为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Times New Roman"/>
              </a:rPr>
              <a:t>1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Times New Roman"/>
              </a:rPr>
              <a:t>外，每层均为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Times New Roman"/>
              </a:rPr>
              <a:t>2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Times New Roman"/>
              </a:rPr>
              <a:t>个节点，因此节点数为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Times New Roman"/>
              </a:rPr>
              <a:t>2h-1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Times New Roman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矩形 2"/>
          <p:cNvSpPr/>
          <p:nvPr/>
        </p:nvSpPr>
        <p:spPr>
          <a:xfrm>
            <a:off x="399960" y="162000"/>
            <a:ext cx="841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、【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IP2002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提高组】按照二叉数的定义，具有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个结点的二叉树有（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）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．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            B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．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            C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．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          D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．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【答案】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【分析】通过画图可知只有以下五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" descr="41"/>
          <p:cNvPicPr/>
          <p:nvPr/>
        </p:nvPicPr>
        <p:blipFill>
          <a:blip r:embed="rId1"/>
          <a:stretch/>
        </p:blipFill>
        <p:spPr>
          <a:xfrm>
            <a:off x="1479600" y="1362240"/>
            <a:ext cx="5897520" cy="1211040"/>
          </a:xfrm>
          <a:prstGeom prst="rect">
            <a:avLst/>
          </a:prstGeom>
          <a:ln w="0">
            <a:noFill/>
          </a:ln>
        </p:spPr>
      </p:pic>
      <p:sp>
        <p:nvSpPr>
          <p:cNvPr id="163" name="矩形 3"/>
          <p:cNvSpPr/>
          <p:nvPr/>
        </p:nvSpPr>
        <p:spPr>
          <a:xfrm>
            <a:off x="442800" y="3011400"/>
            <a:ext cx="832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、【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IP2003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一个高度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的二叉树最小元素数目是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．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2h+l       B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．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h         C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．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2h-1     D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．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2h         E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．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pt-BR" sz="1800" spc="-1" strike="noStrike" baseline="30000">
                <a:solidFill>
                  <a:srgbClr val="ffffff"/>
                </a:solidFill>
                <a:latin typeface="Arial"/>
              </a:rPr>
              <a:t>h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-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答案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分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】高度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的最小元素数目的二叉树如下图所示，它有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个节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360"/>
          <p:cNvPicPr/>
          <p:nvPr/>
        </p:nvPicPr>
        <p:blipFill>
          <a:blip r:embed="rId2"/>
          <a:stretch/>
        </p:blipFill>
        <p:spPr>
          <a:xfrm>
            <a:off x="3579840" y="4202280"/>
            <a:ext cx="1697040" cy="15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矩形 1"/>
          <p:cNvSpPr/>
          <p:nvPr/>
        </p:nvSpPr>
        <p:spPr>
          <a:xfrm>
            <a:off x="282600" y="0"/>
            <a:ext cx="8616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【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IP2003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提高组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】表达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1+34)*5-56/7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的后缀表达式为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．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+34*5-56/7          B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．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*+1 34 5/56 7        C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．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34 +5*56 7/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．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34 5* +56 7/-      E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．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34+5 56 7-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答案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分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】将原式按二叉树展开如图所示，按后根序遍历可得后缀表达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" descr="361"/>
          <p:cNvPicPr/>
          <p:nvPr/>
        </p:nvPicPr>
        <p:blipFill>
          <a:blip r:embed="rId1"/>
          <a:stretch/>
        </p:blipFill>
        <p:spPr>
          <a:xfrm>
            <a:off x="3048120" y="1546200"/>
            <a:ext cx="2284200" cy="1414440"/>
          </a:xfrm>
          <a:prstGeom prst="rect">
            <a:avLst/>
          </a:prstGeom>
          <a:ln w="0">
            <a:noFill/>
          </a:ln>
        </p:spPr>
      </p:pic>
      <p:sp>
        <p:nvSpPr>
          <p:cNvPr id="167" name="矩形 2"/>
          <p:cNvSpPr/>
          <p:nvPr/>
        </p:nvSpPr>
        <p:spPr>
          <a:xfrm>
            <a:off x="282600" y="2970360"/>
            <a:ext cx="8616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【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IP2004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】二叉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，已知其前序遍历序列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2 4 3 5 7 6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，中序遍历序列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 2 1 5 7 3 6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，则其后序遍历序列为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 4 2 5 7 6 3 1      B. 4 2 7 5 6 3 1      C. 4 2 7 5 3 6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. 4 7 2 3 5 6 1      E. 4 5 2 6 3 7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答案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分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】根据前序遍历和中序遍历的结果可以画出以下二叉树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按照后续要求读取即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2"/>
          <a:stretch/>
        </p:blipFill>
        <p:spPr>
          <a:xfrm>
            <a:off x="6789600" y="3798720"/>
            <a:ext cx="235440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矩形 1"/>
          <p:cNvSpPr/>
          <p:nvPr/>
        </p:nvSpPr>
        <p:spPr>
          <a:xfrm>
            <a:off x="438120" y="3240"/>
            <a:ext cx="8186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【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IP2004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】满二叉树的叶结点个数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，则它的结点总数为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. N        B. 2 * N     C. 2 * N – 1     D. 2 * N + 1    E. 2</a:t>
            </a:r>
            <a:r>
              <a:rPr b="0" lang="pt-BR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–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答案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分析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】根据二叉树的性质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0=n2+1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，满二叉树没有度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的结点，经计算选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【分析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总共是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^n-1,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第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排叶子总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^(n-1),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最后一排是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，前面所有的和是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-1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，答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n-1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2"/>
          <p:cNvSpPr/>
          <p:nvPr/>
        </p:nvSpPr>
        <p:spPr>
          <a:xfrm>
            <a:off x="438120" y="2065320"/>
            <a:ext cx="81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【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IP2005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普及组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】完全二叉树的结点个数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，则它的叶结点个数为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 4        B.3         C.5         D. 2         E.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答案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分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】左下角不许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右下可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3"/>
          <p:cNvSpPr/>
          <p:nvPr/>
        </p:nvSpPr>
        <p:spPr>
          <a:xfrm>
            <a:off x="438120" y="3817800"/>
            <a:ext cx="8186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【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IP2005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普及组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】二叉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的宽度优先遍历序列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B C D E F G H 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，已知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是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的父结点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是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的父结点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是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的父结点，树中所有结点的最大深度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（根结点深度设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），可知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的父结点是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无法确定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. B             C. C            D. D            E.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答案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分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|BC|DEF|GH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矩形 1"/>
          <p:cNvSpPr/>
          <p:nvPr/>
        </p:nvSpPr>
        <p:spPr>
          <a:xfrm>
            <a:off x="457200" y="0"/>
            <a:ext cx="819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【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IP2005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提高组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】完全二叉树的结点个数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 * N + 3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，则它的叶结点个数为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.2 * N B.2 * N - 1 C.2 * N + 1D.2 * N - 2 E.2 * N +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答案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分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】最后一个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叶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结点的编号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*N+3,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其父结点的编号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*N+1,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因此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*N+3-(2*N+1)=2*N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2"/>
          <p:cNvSpPr/>
          <p:nvPr/>
        </p:nvSpPr>
        <p:spPr>
          <a:xfrm>
            <a:off x="457200" y="2558880"/>
            <a:ext cx="8196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【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IP2006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】高度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的均衡的二叉树是指：如果去掉叶结点及相应的树枝，它应该是高度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-1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的满二叉树。 在这里，树高等于叶结点的最大深度，根结点的深度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，如果某个均衡的二叉树共有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381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个结点， 则该树的树高为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 10     B. 11      C. 12      D.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答案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分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1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2048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。如果根节点的深度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，则满二叉树节点总数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^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深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，由于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48-1=2047&lt;2381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，故整个树高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满二叉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+1=12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。由于本题设定的根节点深度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，故该题的树高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矩形 1"/>
          <p:cNvSpPr/>
          <p:nvPr/>
        </p:nvSpPr>
        <p:spPr>
          <a:xfrm>
            <a:off x="495360" y="6480"/>
            <a:ext cx="8102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【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IP2006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普及组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】已知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个结点的二叉树的先根遍历是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2 3 4 5 6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（数字为结点的编号，以下同），后根遍历是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 2 5 6 4 1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，则该二叉树的可能的中根遍历是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 3 2 1 4 6 5            B. 3 2 1 5 4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. 2 1 3 5 4 6            D. 2 3 1 4 6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答案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分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】先根、中根、后根分别指的是先序、中序、后序，可以根据先根和任一可能的中根形成一棵二叉树，然后读取其后根遍历，如果和题干中后根遍历相同即为答案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2"/>
          <p:cNvSpPr/>
          <p:nvPr/>
        </p:nvSpPr>
        <p:spPr>
          <a:xfrm>
            <a:off x="495360" y="3129120"/>
            <a:ext cx="8102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【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IP2007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普及组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】已知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个结点的二叉树的先根遍历是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2 4 5 6 3 7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（数字为结点的编号，以下同），中根遍历是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 2 6 5 1 7 3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，则该二叉树的后根遍历是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4 6 5 2 7 3 1 B.4 6 5 2 1 3 7 C.4 2 3 1 5 4 7D.4 6 5 3 1 7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答案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分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为根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为左子根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为右子根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的左子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的左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Box 3"/>
          <p:cNvSpPr/>
          <p:nvPr/>
        </p:nvSpPr>
        <p:spPr>
          <a:xfrm>
            <a:off x="3647160" y="203976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Arial"/>
              </a:rPr>
              <a:t>谢谢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82520" y="185400"/>
            <a:ext cx="8709120" cy="50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二、树的基本概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树是递归定义的；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一棵树中至少有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个结点。这个结点就是根结点，它没有前驱，其余每个结点都有唯一的一个前驱结点。每个结点可以有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0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或多个后继结点。因此树虽然是非线性结构，但也是有序结构。至于前驱后继结点是哪个，还要看树的遍历方法，我们将在后面讨论；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一个结点的子树个数，称为这个结点的度（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degree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结点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的度为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结点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的度为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0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）；度为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0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的结点称为叶结点（树叶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leaf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如结点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5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6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8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9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）；度不为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0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的结点称为分支结点（如结点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4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7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）；根以外的分支结点又称为内部结点（结点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4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7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）；树中各结点的度的最大值称为这棵树的度（这棵树的度为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）。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在用图形表示的树型结构中，对两个用线段（称为树枝）连接的相关联的结点，称上端结点为下端结点的父结点，称下端结点为上端结点的子结点。称同一个父结点的多个子结点为兄弟结点。如结点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是结点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4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的父结点，结点 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4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是结点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的子结点，它们又是兄弟结点，同时结点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又是结点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5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6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的父结点。称从根结点到某个子结点所经过的所有结点为这个子结点的祖先。如结点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4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7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是结点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12248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的祖先。称以某个结点为根的子树中的任一结点都是该结点的子孙。如结点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7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8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9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都是结点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4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的子孙。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E.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定义一棵树的根结点的层次（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level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）为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其它结点的层次等于它的父结点层次加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。如结点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4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的层次为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结点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5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6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7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的层次为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结点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8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9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的层次为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4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。一棵树中所有的结点的层次的最大值称为树的深度（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depth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）。如这棵树的深度为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4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F.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对于树中任意两个不同的结点，如果从一个结点出发，自上而下沿着树中连着结点的线段能到达另一结点，称它们之间存在着一条路径。可用路径所经过的结点序列表示路径，路径的长度等于路径上的结点个数减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。如上图中，结点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和结点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8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之间存在着一条路径，并可用（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4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7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8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）表示这条路径，该条路径的长度为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。注意，不同子树上的结点之间不存在路径，从根结点出发，到树中的其余结点一定存在着一条路径。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G.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森林（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forest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）是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m(m&gt;=0)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棵互不相交的树的集合。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-360" y="139320"/>
            <a:ext cx="8983800" cy="540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Calibri"/>
                <a:ea typeface="宋体"/>
              </a:rPr>
              <a:t>三、树的遍历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在应用树结构解决问题时，往往要求按照某种次序获得树中全部结点的信息，这种操作叫作树的遍历。遍历的方法有多种，常用的有：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A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、先序（根）遍历：先访问根结点，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     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再从左到右按照先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序思想遍历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各棵子树。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如上图先序遍历的结果为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：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125634789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；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 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B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、后序（根）遍历：先从左到右遍历各棵子树，再访问根结点。如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上图后序遍历的结果为：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562389741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；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C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、层次遍历：按层次从小到大逐个访问，同一层次按照从左到右的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次序。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如上图层次遍历的结果为：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123456789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；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D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、叶结点遍历：有时把所有的数据信息都存放在叶结点中，而其余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结点都是用来表示数据之间的某种分支或层次关系，这种情况就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用这种方法。如上图按照这个思想访问的结果为：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56389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；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6162840" y="1074600"/>
            <a:ext cx="2388960" cy="14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59840" y="0"/>
            <a:ext cx="8526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宋体"/>
                <a:ea typeface="宋体"/>
              </a:rPr>
              <a:t>四、二叉树基本概念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二叉树（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binary tree,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简写成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BT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）是一种特殊的树型结构，它的度数为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的树。即二叉树的每个结点最多有两个子结点。每个结点的子结点分别称为左孩子、右孩子，它的两棵子树分别称为左子树、右子树。二叉树有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5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中基本形态：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　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　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　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　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　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　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前面引入的树的术语也基本适用于二叉树，但二叉树与树也有很多不同，如：首先二叉树的每个结点至多只能有两个结点，二叉树可以为空，二叉树一定是有序的，通过它的左、右子树关系体现出来。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01" name="Object 4"/>
          <p:cNvGraphicFramePr/>
          <p:nvPr/>
        </p:nvGraphicFramePr>
        <p:xfrm>
          <a:off x="844560" y="1500120"/>
          <a:ext cx="7265880" cy="227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4560" y="1500120"/>
                    <a:ext cx="7265880" cy="22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0952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Calibri"/>
              </a:rPr>
              <a:t>五、二叉树的性质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2248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宋体"/>
                <a:ea typeface="宋体"/>
              </a:rPr>
              <a:t>【性质</a:t>
            </a:r>
            <a:r>
              <a:rPr b="0" lang="zh-CN" sz="2000" spc="-1" strike="noStrike">
                <a:solidFill>
                  <a:srgbClr val="ffff00"/>
                </a:solidFill>
                <a:latin typeface="宋体"/>
                <a:ea typeface="宋体"/>
              </a:rPr>
              <a:t>1</a:t>
            </a:r>
            <a:r>
              <a:rPr b="0" lang="zh-CN" sz="2000" spc="-1" strike="noStrike">
                <a:solidFill>
                  <a:srgbClr val="ffff00"/>
                </a:solidFill>
                <a:latin typeface="宋体"/>
                <a:ea typeface="宋体"/>
              </a:rPr>
              <a:t>】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在二叉树的第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i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层上最多有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0" lang="zh-CN" sz="2000" spc="-1" strike="noStrike" baseline="30000">
                <a:solidFill>
                  <a:srgbClr val="ffffff"/>
                </a:solidFill>
                <a:latin typeface="宋体"/>
                <a:ea typeface="宋体"/>
              </a:rPr>
              <a:t>i-1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个结点（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i&gt;=1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）。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证明：很简单，用归纳法：当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i=1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时，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0" lang="zh-CN" sz="2000" spc="-1" strike="noStrike" baseline="30000">
                <a:solidFill>
                  <a:srgbClr val="ffffff"/>
                </a:solidFill>
                <a:latin typeface="宋体"/>
                <a:ea typeface="宋体"/>
              </a:rPr>
              <a:t>i-1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=1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显然成立；现在假设第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i-1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层时命题成立，即第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i-1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层上最多有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0" lang="zh-CN" sz="2000" spc="-1" strike="noStrike" baseline="30000">
                <a:solidFill>
                  <a:srgbClr val="ffffff"/>
                </a:solidFill>
                <a:latin typeface="宋体"/>
                <a:ea typeface="宋体"/>
              </a:rPr>
              <a:t>i</a:t>
            </a:r>
            <a:r>
              <a:rPr b="0" lang="en-US" sz="2000" spc="-1" strike="noStrike" baseline="30000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0" lang="zh-CN" sz="2000" spc="-1" strike="noStrike" baseline="30000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个结点。由于二叉树的每个结点的度最多为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故在第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i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层上的最大结点数为第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i-1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层的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倍，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即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2*2</a:t>
            </a:r>
            <a:r>
              <a:rPr b="0" lang="zh-CN" sz="2000" spc="-1" strike="noStrike" baseline="30000">
                <a:solidFill>
                  <a:srgbClr val="ffffff"/>
                </a:solidFill>
                <a:latin typeface="宋体"/>
                <a:ea typeface="宋体"/>
              </a:rPr>
              <a:t>i-2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=2</a:t>
            </a:r>
            <a:r>
              <a:rPr b="0" lang="zh-CN" sz="2000" spc="-1" strike="noStrike" baseline="30000">
                <a:solidFill>
                  <a:srgbClr val="ffffff"/>
                </a:solidFill>
                <a:latin typeface="宋体"/>
                <a:ea typeface="宋体"/>
              </a:rPr>
              <a:t>i–1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宋体"/>
                <a:ea typeface="宋体"/>
              </a:rPr>
              <a:t>【性质</a:t>
            </a:r>
            <a:r>
              <a:rPr b="0" lang="zh-CN" sz="2000" spc="-1" strike="noStrike">
                <a:solidFill>
                  <a:srgbClr val="ffff00"/>
                </a:solidFill>
                <a:latin typeface="宋体"/>
                <a:ea typeface="宋体"/>
              </a:rPr>
              <a:t>2</a:t>
            </a:r>
            <a:r>
              <a:rPr b="0" lang="zh-CN" sz="2000" spc="-1" strike="noStrike">
                <a:solidFill>
                  <a:srgbClr val="ffff00"/>
                </a:solidFill>
                <a:latin typeface="宋体"/>
                <a:ea typeface="宋体"/>
              </a:rPr>
              <a:t>】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深度为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k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的二叉树至多有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0" lang="zh-CN" sz="2000" spc="-1" strike="noStrike" baseline="30000">
                <a:solidFill>
                  <a:srgbClr val="ffffff"/>
                </a:solidFill>
                <a:latin typeface="宋体"/>
                <a:ea typeface="宋体"/>
              </a:rPr>
              <a:t>k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–1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个结点（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k&gt;=1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）。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证明：在具有相同深度的二叉树中，仅当每一层都含有最大结点数时，其树中结点数最多。因此利用性质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可得，深度为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k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的二叉树的结点数至多为：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0" lang="zh-CN" sz="2000" spc="-1" strike="noStrike" baseline="30000">
                <a:solidFill>
                  <a:srgbClr val="ffffff"/>
                </a:solidFill>
                <a:latin typeface="宋体"/>
                <a:ea typeface="宋体"/>
              </a:rPr>
              <a:t>0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+2</a:t>
            </a:r>
            <a:r>
              <a:rPr b="0" lang="zh-CN" sz="2000" spc="-1" strike="noStrike" baseline="30000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+…+2</a:t>
            </a:r>
            <a:r>
              <a:rPr b="0" lang="zh-CN" sz="2000" spc="-1" strike="noStrike" baseline="30000">
                <a:solidFill>
                  <a:srgbClr val="ffffff"/>
                </a:solidFill>
                <a:latin typeface="宋体"/>
                <a:ea typeface="宋体"/>
              </a:rPr>
              <a:t>k-1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=2</a:t>
            </a:r>
            <a:r>
              <a:rPr b="0" lang="zh-CN" sz="2000" spc="-1" strike="noStrike" baseline="30000">
                <a:solidFill>
                  <a:srgbClr val="ffffff"/>
                </a:solidFill>
                <a:latin typeface="宋体"/>
                <a:ea typeface="宋体"/>
              </a:rPr>
              <a:t>k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-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故命题正确。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12248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宋体"/>
                <a:ea typeface="宋体"/>
              </a:rPr>
              <a:t>【特别】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一棵深度为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k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且有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0" lang="zh-CN" sz="2000" spc="-1" strike="noStrike" baseline="30000">
                <a:solidFill>
                  <a:srgbClr val="ffffff"/>
                </a:solidFill>
                <a:latin typeface="宋体"/>
                <a:ea typeface="宋体"/>
              </a:rPr>
              <a:t>k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–1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个结点的二叉树称为满二叉树。如下图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A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为深度为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4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的满二叉树，这种树的特点是每层上的结点数都是最大结点数。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可以对满二叉树的结点进行连续编号，约定编号从根结点起，自上而下，从左到右，由此引出完全二叉树的定义，深度为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k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有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n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个结点的二叉树当且仅当其每一个结点都与深度为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k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的满二叉树中编号从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到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n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的结点一一对应时，称为完全二叉树。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下图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B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就是一个深度为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4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结点数为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12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的完全二叉树。它有如下特征：叶结点只可能在层次最大的两层上出现；对任一结点，若其右分支下的子孙的最大层次为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m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则在其左分支下的子孙的最大层次必为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m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或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m+1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。下图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C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D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不是完全二叉树，请大家思考为什么？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1009800" y="738360"/>
            <a:ext cx="6984720" cy="4725360"/>
            <a:chOff x="1009800" y="738360"/>
            <a:chExt cx="6984720" cy="4725360"/>
          </a:xfrm>
        </p:grpSpPr>
        <p:graphicFrame>
          <p:nvGraphicFramePr>
            <p:cNvPr id="107" name="Object 3"/>
            <p:cNvGraphicFramePr/>
            <p:nvPr/>
          </p:nvGraphicFramePr>
          <p:xfrm>
            <a:off x="1009800" y="744120"/>
            <a:ext cx="3492720" cy="2058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8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09800" y="744120"/>
                      <a:ext cx="3492720" cy="2058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9" name="Object 4"/>
            <p:cNvGraphicFramePr/>
            <p:nvPr/>
          </p:nvGraphicFramePr>
          <p:xfrm>
            <a:off x="4508640" y="738360"/>
            <a:ext cx="3485520" cy="2062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0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08640" y="738360"/>
                      <a:ext cx="3485520" cy="206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1" name="Object 5"/>
            <p:cNvGraphicFramePr/>
            <p:nvPr/>
          </p:nvGraphicFramePr>
          <p:xfrm>
            <a:off x="1010880" y="2819160"/>
            <a:ext cx="3491280" cy="2644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2" name="Objec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010880" y="2819160"/>
                      <a:ext cx="3491280" cy="264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3" name="Object 6"/>
            <p:cNvGraphicFramePr/>
            <p:nvPr/>
          </p:nvGraphicFramePr>
          <p:xfrm>
            <a:off x="4488480" y="2815920"/>
            <a:ext cx="3506040" cy="2646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4" name="Object 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488480" y="2815920"/>
                      <a:ext cx="3506040" cy="264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2T03:39:14Z</dcterms:created>
  <dc:creator/>
  <dc:description/>
  <cp:keywords/>
  <dc:language>en-US</dc:language>
  <cp:lastModifiedBy>AutoBVT</cp:lastModifiedBy>
  <dcterms:modified xsi:type="dcterms:W3CDTF">2018-09-06T08:24:49Z</dcterms:modified>
  <cp:revision>4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40</vt:lpwstr>
  </property>
</Properties>
</file>